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039E-2F91-4D64-BDC9-231AB7624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30400" y="690480"/>
            <a:ext cx="4597200" cy="3449880"/>
          </a:xfrm>
          <a:prstGeom prst="rect">
            <a:avLst/>
          </a:prstGeom>
          <a:ln w="0">
            <a:noFill/>
          </a:ln>
        </p:spPr>
      </p:sp>
      <p:sp>
        <p:nvSpPr>
          <p:cNvPr id="65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BBCA-9E98-4DB8-B7DD-A9670A8FC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98EFB-A44D-41DF-A1BF-85C96774C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60DC6-50EC-4CAB-8A61-A774A8606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40FCC56-0F52-479A-93B9-F6307E4B055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7C98711-B83B-4A61-B620-0973B9DF11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ADBC632-A614-4E60-BEB9-42A9DDA2CC5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46ECF2F-C56A-4ABF-809B-B2740192DC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AC90A89-FD25-4DD4-B3B0-A1025D2627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B1C61AB-3E3E-453D-B9D5-E1849DB8F7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AB82296-9FD0-4542-A7EB-96BDA7A3890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FBCD1A6-9255-4EA2-ADA9-093E6106F36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4408464-F85F-4732-BE38-099D432A28D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DADB04A-8472-4A76-A35D-4DC513A2FA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D6CA8-C983-44E9-8F94-228BEA07E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E568810-8806-429D-9994-4ACDC981C7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D37EA7A-EB2D-42DF-884B-06AF260AB2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52C2729-90B0-4DF4-AF1F-DB7D57AB85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D0E6C87-9E86-4489-A3C2-CB9A988EFB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B883F27-D574-4D91-9231-93AD1033F5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32DC350-2E94-4B60-A36F-39F33750DF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A470B3A-E552-4A6A-896B-781E9B3C48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662013-B6CE-49CB-B668-2568916900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8B1A089-A330-4243-97F2-0920464488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83E9064-7150-435A-92D4-68B20DD984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F993F-5086-41AA-8EEB-F7CB535CF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18436B0-62F7-4AFB-8EA0-F8CE52374A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45ED1A-A459-48D0-9398-59890E7093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6C3E8C-C1B0-4CF4-8D7C-A30565F2CA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DAEF20-FCA4-4CAF-8EB3-9484C20585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928EA2-4EDF-4130-84CD-8DAD0122E2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5018C6-444A-458E-9221-F4232EDA0E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DDB12C-2710-4939-A256-906DF27257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873EFF-C4D9-473C-A1AF-38532448C8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266BD6-FAAB-4908-966D-C813545A26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B369F1-6213-4D43-92EF-F15D7D0585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51584-7F3B-437C-A4EE-4D6D31ED0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914102-6F62-46B2-AED2-66CC041960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FB0FF1-634E-4D72-B0CD-D065634D80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60396B-33C1-4E59-A7DF-E883467FE5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4AC15C2-8844-4A06-A8F0-210499244D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DFE0858-DE89-477F-9E72-0CFBFC726D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BF906EA-1980-4669-A49E-5B13A30ADB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563396C-FF62-4E81-983C-552B5C7302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3DFF26C-BE96-49BE-BA06-96A5C6C353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2794282-F49B-4850-A886-8D24953E5C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2607E4D-CF1E-421A-9B65-509B52E6A6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5B2C2-23C4-4D13-A64A-5DE579029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5C1CA99-1EBF-4F43-8052-77DB3424D5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24C46B0-88A7-4548-A3AF-D0DE09CF8C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BA64064-2597-48CE-95A8-A3E9C0B9FF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1BA7798-F493-4DF4-A481-AA15BDD026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1F8EF12-F6DB-48A9-9E27-9E1CDF9BF7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618E9-A928-4EA8-9B90-7CDEF5932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3701B-05F6-4AEE-966F-801EB1104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BCF19-C261-4776-87B8-3E65A5BB1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55125-4AC6-4B55-854E-BE784D7FB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CE37C-CF4A-4D4E-B10F-85641911D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AE120-A02D-433A-85FB-7D0953175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A1299-8D20-4033-8884-419CF8981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8E56A-5986-4D78-877C-4F39721F6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5E11D-5204-4AC9-9295-10B0A218E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52E91-3371-4087-B3C0-C3F677A22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1EA96-74DA-47CA-BBC1-6A7DE512A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369E21-7C1D-4260-A346-A6472C18BC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814DF-D0B6-452F-90C0-2EE98FED3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06EEC-86C8-4B3E-9950-0F18946A1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7569F-B47D-4853-A202-B8374BFFD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56E0E-5745-469E-B40A-5FF6E55B2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F8C1F-7A9E-4EC4-BFA7-9E24D0CF5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C2719D-68EB-4283-805A-580736A72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C2482-2951-434F-9F31-95F9960D9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102D1-1168-4F46-98A8-F554D92BF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CB78B-10EC-4366-889C-B4ABC0520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E7E50-F19F-426F-A04C-F8A9EBFDE6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E0947B-6299-462B-A87D-83E8E40A88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037C7F-7594-457D-9121-214C18642A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5C95F89-927E-4635-A565-2388466A1FC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3E71362-B37B-4921-96DA-49FF8F13BC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101F783-8E3C-4AB9-8D2C-46E29FBBB2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AF722-696B-4125-B7AC-CA86C3161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BE8B994-E2A9-4BF0-80F9-4142925123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AC0D0EA-3D10-4D50-96CE-8B3E19FFE8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6B59A75-DFF4-4C24-A8C6-A2D459AD2A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7604887-333C-4F0B-926F-458AA6BA65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DE906F8-DCC9-4605-BB51-D74B8D4ECC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9B202BF-AAB1-4B05-95EC-06DBFE7F91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00E1689-D699-40EC-93C6-1E9C78FB742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A8264AC-3D06-45A2-89AB-73C938ED082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2A80C8F-8B68-4D35-B695-0CD3FE841AC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EE6405-41A7-45F5-BD71-E6715B85D1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CAE5A-E62D-4B21-92A5-BCBB44581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10B54D-B346-4FF7-9BF1-6513128C6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2C9641-F539-49CA-94D3-CB0EEACF7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E65A6B-9FA8-4B6D-ADD0-A59A2B4C7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609737-72D9-4909-9C88-B1A9BD91E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4AAFA-2D46-4CC3-A118-E94311C64E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653D53-8DB0-4B5D-B8BC-F26EB58E5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232C8-FCF2-45BB-8452-DEE20F6E1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0C156-8693-4A8D-95F6-4554EA053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F03850-DB6B-4EF4-B9B6-1C3B3AC59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05A3D6-4397-4B2C-9B2D-D6D2BE7BE7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DBC2F-4D4E-4E93-A3A8-1EAEAA5AA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44D658-14A4-4E2C-AC77-D0527D8943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2CE17A-4D5A-4EC1-81B5-EBCFB08042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0B34C5-0BF1-4122-A91C-C14BC8E54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22B53-7838-4D7E-942F-1ABECC9A9A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AE1C76-4DC9-4853-8E54-556A259849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D18E4B-535D-4FE9-A93D-15DBFD3C05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83EC89-E5B1-4213-9F60-6BAD2C035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15029-5BE3-480D-90CF-E4700E9D3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40D1C-59BE-40A8-8875-8CDBD5BAC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AD0D6-5683-4F88-A9EC-3AE2BA80A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3827-540B-434E-B658-D85CD98AD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DB06AE-5A2F-4405-B0C1-0B2D1A1C10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2868C9-DAB9-457F-B7FE-45119CF30F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A0CDD8-1566-48BE-9E05-62EAAE806C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BEE5A4-777A-4F04-BD74-C3EB48CD81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91205D-44D4-4A8A-B688-BA1A1A3071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46CB1E-EC74-403C-8014-EFD0C6771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B1F92-7896-4A94-9974-1938325F01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3AEDB7-A3D5-47CD-9670-9AA82CA0A0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49F04A-0902-4C04-BE16-4C3FD593CA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2C6E6-0AF7-47C1-8466-12DF1EA07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E6127-40BF-4DDB-AFA1-684585D08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729D3-7506-47F4-BC56-EEA3ED4A7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4A6A2-05B0-425C-B718-0E3E359D7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881AD1-474A-49EC-A691-E2B357C0F9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4CCCEC-F455-41C8-97AC-7C6EC1E935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D2F7EF-A593-402B-ABED-B6A94998B1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7AD671-4C01-4858-A057-1C2C479D9D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C9B42-21BD-4CB8-AFE9-AAB4E22BC8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B50AD0-B060-4C8F-A2DD-60BD7F4347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9E5CC-0FCD-4040-9FCD-923505DD4C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D5E667-C9F0-44A8-A818-1D02D6AF5C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1D1C-1DE2-4143-B228-550B7A115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A79CBC-77EB-48F8-AAA7-314A13AB04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84376-EE60-4E51-B24F-D14632D97A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200FBF-1BCC-48E4-9259-095B1441D1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8C5AE-A1EF-4035-B99A-16277ACE5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BCF7E2-371C-485E-90E6-790BB0035B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9914E2-80F2-4E70-A0BF-DE17E3AF73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5A4434-BB78-4A6D-AF42-AF40186429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3165E23-73BF-4BC0-B86E-63AAAE7858E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621CB7C-6E19-4886-9ABF-95058D15A54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ABD5F6A-51A6-47E7-B13B-439DA50A2CA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2A32-4428-494F-BD87-4FFD1A015B3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9C34-B2E9-4783-8F16-BBA7204D80C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90EA-FA16-4236-9D0A-F4CE3D9F7DC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FAC4-1ED4-4E4E-A151-2A101C320BD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657B-236D-4C63-BF55-8935ED0CA16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2331-16DE-41D2-96D0-B612A1B8A52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486E-8BC9-43FD-9A28-9D41399C6C2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B82B-3C6C-4B40-A1C1-8F1EE14C0C1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617D-2A01-4DFF-9EA4-FA8CFDC9F49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C893-FAB7-4AE0-BD06-FE55A925381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2373-7DF8-4C01-8393-7175731EBC35}"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25B3-7921-4F89-91EC-D6B3F3A77B6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enchantedlearning.com/europe/britain/Flagbig.GIF&amp;imgrefurl=http://www.enchantedlearning.com/europe/britain/flag.shtml&amp;usg=__jpHYtwp89scKqB2FZ_7u01ZwNTM=&amp;h=332&amp;w=500&amp;sz=7&amp;hl=en&amp;start=1&amp;zoom=1&amp;um=1&amp;itbs=1&amp;tbnid=1I-9Tnz4GOwM1M:&amp;tbnh=86&amp;tbnw=130&amp;prev=/images?q=britain+flag&amp;um=1&amp;hl=en&amp;safe=active&amp;rls=com.microsoft:en-US&amp;rlz=1I7GGLD_en&amp;tbs=isch:1&amp;ei=c4p3TdecK6-H0QHLmJmzBw"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HE VICTORY THAT NEVER HAD TO HAPPEN</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he Battle of New Orlean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Why did the Battle never needed to be fought?</a:t>
            </a:r>
            <a:endParaRPr b="0" lang="en-US" sz="30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fter signing the Treaty of Ghent several weeks earlier that officially ended the war neither side had gotten the news until after the Battle of New Orleans ended, and this battle was supposedly one of the greatest American victories in the war.</a:t>
            </a:r>
            <a:endParaRPr b="0" lang="en-US" sz="2700" spc="-1" strike="noStrike">
              <a:solidFill>
                <a:srgbClr val="000000"/>
              </a:solidFill>
              <a:latin typeface="Georgia"/>
            </a:endParaRPr>
          </a:p>
        </p:txBody>
      </p:sp>
      <p:pic>
        <p:nvPicPr>
          <p:cNvPr id="647" name="Picture 2" descr="http://www.archives.gov/historical-docs/doc-content/images/war-1812-treaty-ghent-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Why was this such a tremendous victory for Andrew Jackson and his men?</a:t>
            </a:r>
            <a:endParaRPr b="0" lang="en-US" sz="3000" spc="-1" strike="noStrike">
              <a:solidFill>
                <a:srgbClr val="7b9899"/>
              </a:solidFill>
              <a:latin typeface="Georgia"/>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attle of New Orleans was such a tremendous victory because it gave the control of the Mississippi river. The Mississippi  was a major trading por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s battle will also mark the states political incorporation into the Un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nce the battle was such a astounding victory Andrew Jackson was named president in years to come after the war for showing his great leadership skil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0" name="Picture 2" descr="http://cdn.dipity.com/uploads/events/cb574d96ca9e312e895974314daa4be2_1M.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ANd9GcQixV0-WF7l78A8-tlB6yyxlB7x469erTJg4yaPVSfI93OdIbEEJiN-QttN"/>
          <p:cNvPicPr/>
          <p:nvPr/>
        </p:nvPicPr>
        <p:blipFill>
          <a:blip r:embed="rId1"/>
          <a:stretch/>
        </p:blipFill>
        <p:spPr>
          <a:xfrm>
            <a:off x="0" y="0"/>
            <a:ext cx="9144000" cy="6858000"/>
          </a:xfrm>
          <a:prstGeom prst="rect">
            <a:avLst/>
          </a:prstGeom>
          <a:ln w="0">
            <a:noFill/>
          </a:ln>
        </p:spPr>
      </p:pic>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3"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207c2"/>
                </a:solidFill>
                <a:latin typeface="Franklin Gothic Medium"/>
              </a:rPr>
              <a:t>How Does the topic of the Battle of New Orleans relate to the theme of Challenges?</a:t>
            </a:r>
            <a:endParaRPr b="0" lang="en-US" sz="6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bjective</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students will be able to describe why the battle of New Orleans never needed to be fought, and why it was a tremendous victory for Andrew Jackson and his men.</a:t>
            </a:r>
            <a:endParaRPr b="0" lang="en-US" sz="2700" spc="-1" strike="noStrike">
              <a:solidFill>
                <a:srgbClr val="000000"/>
              </a:solidFill>
              <a:latin typeface="Georgia"/>
            </a:endParaRPr>
          </a:p>
        </p:txBody>
      </p:sp>
      <p:pic>
        <p:nvPicPr>
          <p:cNvPr id="617" name="Picture 4" descr="C:\Program Files\Microsoft Office\MEDIA\CAGCAT10\j0302953.jpg"/>
          <p:cNvPicPr/>
          <p:nvPr/>
        </p:nvPicPr>
        <p:blipFill>
          <a:blip r:embed="rId1"/>
          <a:stretch/>
        </p:blipFill>
        <p:spPr>
          <a:xfrm>
            <a:off x="2286000" y="3124080"/>
            <a:ext cx="2228760" cy="31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Background facts on the Battle of New Orleans</a:t>
            </a:r>
            <a:endParaRPr b="0" lang="en-US" sz="30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were three main battles in the Battle of New Orleans these are the Battle of lake Borgne, the Night attack of December 23, and the battle of January 28.</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ritish lost a grand total 2,459, while the United States lost 333.</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ritish started out with 11,000 soldiers, and the United States only had 4,000.</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attle was fought at mouth of the Mississippi river.                                 </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V.S. </a:t>
            </a:r>
            <a:endParaRPr b="0" lang="en-US" sz="2700" spc="-1" strike="noStrike">
              <a:solidFill>
                <a:srgbClr val="000000"/>
              </a:solidFill>
              <a:latin typeface="Georgia"/>
            </a:endParaRPr>
          </a:p>
        </p:txBody>
      </p:sp>
      <p:pic>
        <p:nvPicPr>
          <p:cNvPr id="620" name="Picture 2" descr="http://t1.gstatic.com/images?q=tbn:ANd9GcRjYj_Ohf2_mF8GT98Hiilf4FeC9oEpYdSqIB-mwgq0lEnLlVL7if4GlN9W">
            <a:hlinkClick r:id="rId1"/>
          </p:cNvPr>
          <p:cNvPicPr/>
          <p:nvPr/>
        </p:nvPicPr>
        <p:blipFill>
          <a:blip r:embed="rId2"/>
          <a:stretch/>
        </p:blipFill>
        <p:spPr>
          <a:xfrm>
            <a:off x="2057400" y="5257800"/>
            <a:ext cx="1957320" cy="1295280"/>
          </a:xfrm>
          <a:prstGeom prst="rect">
            <a:avLst/>
          </a:prstGeom>
          <a:ln w="0">
            <a:noFill/>
          </a:ln>
        </p:spPr>
      </p:pic>
      <p:pic>
        <p:nvPicPr>
          <p:cNvPr id="621" name="Picture 4" descr="http://t0.gstatic.com/images?q=tbn:ANd9GcStmaFASnBYn-cqdun3gLoMTVYIFIugJipJfVeHQQa2CocojNL7LQsyEaCt"/>
          <p:cNvPicPr/>
          <p:nvPr/>
        </p:nvPicPr>
        <p:blipFill>
          <a:blip r:embed="rId3"/>
          <a:stretch/>
        </p:blipFill>
        <p:spPr>
          <a:xfrm>
            <a:off x="4724280" y="5181480"/>
            <a:ext cx="179892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http://geology.com/press-release/coastal-area-impact/mississippi-river-sediment-lg.jpg"/>
          <p:cNvPicPr/>
          <p:nvPr/>
        </p:nvPicPr>
        <p:blipFill>
          <a:blip r:embed="rId1"/>
          <a:stretch/>
        </p:blipFill>
        <p:spPr>
          <a:xfrm>
            <a:off x="0" y="0"/>
            <a:ext cx="9144000" cy="6858000"/>
          </a:xfrm>
          <a:prstGeom prst="rect">
            <a:avLst/>
          </a:prstGeom>
          <a:ln w="0">
            <a:noFill/>
          </a:ln>
        </p:spPr>
      </p:pic>
      <p:sp>
        <p:nvSpPr>
          <p:cNvPr id="623" name="Ink 3"/>
          <p:cNvSpPr/>
          <p:nvPr/>
        </p:nvSpPr>
        <p:spPr>
          <a:xfrm>
            <a:off x="3741840" y="1847880"/>
            <a:ext cx="1901880" cy="1832040"/>
          </a:xfrm>
          <a:custGeom>
            <a:avLst/>
            <a:gdLst/>
            <a:ahLst/>
            <a:rect l="l" t="t" r="r" b="b"/>
            <a:pathLst>
              <a:path w="5285" h="5086">
                <a:moveTo>
                  <a:pt x="12179" y="5655"/>
                </a:moveTo>
                <a:lnTo>
                  <a:pt x="12143" y="5673"/>
                </a:lnTo>
                <a:lnTo>
                  <a:pt x="12115" y="5689"/>
                </a:lnTo>
                <a:lnTo>
                  <a:pt x="12080" y="5705"/>
                </a:lnTo>
                <a:lnTo>
                  <a:pt x="12039" y="5723"/>
                </a:lnTo>
                <a:lnTo>
                  <a:pt x="11995" y="5734"/>
                </a:lnTo>
                <a:lnTo>
                  <a:pt x="11956" y="5755"/>
                </a:lnTo>
                <a:lnTo>
                  <a:pt x="11893" y="5789"/>
                </a:lnTo>
                <a:lnTo>
                  <a:pt x="11813" y="5835"/>
                </a:lnTo>
                <a:lnTo>
                  <a:pt x="11757" y="5879"/>
                </a:lnTo>
                <a:lnTo>
                  <a:pt x="11662" y="5953"/>
                </a:lnTo>
                <a:lnTo>
                  <a:pt x="11606" y="6043"/>
                </a:lnTo>
                <a:lnTo>
                  <a:pt x="11534" y="6127"/>
                </a:lnTo>
                <a:lnTo>
                  <a:pt x="11410" y="6272"/>
                </a:lnTo>
                <a:lnTo>
                  <a:pt x="11304" y="6422"/>
                </a:lnTo>
                <a:lnTo>
                  <a:pt x="11187" y="6573"/>
                </a:lnTo>
                <a:lnTo>
                  <a:pt x="11069" y="6725"/>
                </a:lnTo>
                <a:lnTo>
                  <a:pt x="10964" y="6883"/>
                </a:lnTo>
                <a:lnTo>
                  <a:pt x="10864" y="7045"/>
                </a:lnTo>
                <a:lnTo>
                  <a:pt x="10733" y="7258"/>
                </a:lnTo>
                <a:lnTo>
                  <a:pt x="10667" y="7453"/>
                </a:lnTo>
                <a:lnTo>
                  <a:pt x="10592" y="7689"/>
                </a:lnTo>
                <a:lnTo>
                  <a:pt x="10517" y="7928"/>
                </a:lnTo>
                <a:lnTo>
                  <a:pt x="10487" y="8167"/>
                </a:lnTo>
                <a:lnTo>
                  <a:pt x="10443" y="8409"/>
                </a:lnTo>
                <a:lnTo>
                  <a:pt x="10414" y="8568"/>
                </a:lnTo>
                <a:lnTo>
                  <a:pt x="10363" y="8731"/>
                </a:lnTo>
                <a:lnTo>
                  <a:pt x="10393" y="8905"/>
                </a:lnTo>
                <a:lnTo>
                  <a:pt x="10418" y="9048"/>
                </a:lnTo>
                <a:lnTo>
                  <a:pt x="10517" y="9225"/>
                </a:lnTo>
                <a:lnTo>
                  <a:pt x="10616" y="9327"/>
                </a:lnTo>
                <a:lnTo>
                  <a:pt x="10756" y="9471"/>
                </a:lnTo>
                <a:lnTo>
                  <a:pt x="10888" y="9562"/>
                </a:lnTo>
                <a:lnTo>
                  <a:pt x="11063" y="9674"/>
                </a:lnTo>
                <a:lnTo>
                  <a:pt x="11264" y="9802"/>
                </a:lnTo>
                <a:lnTo>
                  <a:pt x="11484" y="9910"/>
                </a:lnTo>
                <a:lnTo>
                  <a:pt x="11708" y="9996"/>
                </a:lnTo>
                <a:lnTo>
                  <a:pt x="11859" y="10054"/>
                </a:lnTo>
                <a:lnTo>
                  <a:pt x="12018" y="10118"/>
                </a:lnTo>
                <a:lnTo>
                  <a:pt x="12179" y="10145"/>
                </a:lnTo>
                <a:lnTo>
                  <a:pt x="12332" y="10170"/>
                </a:lnTo>
                <a:lnTo>
                  <a:pt x="12496" y="10206"/>
                </a:lnTo>
                <a:lnTo>
                  <a:pt x="12650" y="10220"/>
                </a:lnTo>
                <a:lnTo>
                  <a:pt x="12822" y="10235"/>
                </a:lnTo>
                <a:lnTo>
                  <a:pt x="12971" y="10222"/>
                </a:lnTo>
                <a:lnTo>
                  <a:pt x="13122" y="10170"/>
                </a:lnTo>
                <a:lnTo>
                  <a:pt x="13250" y="10126"/>
                </a:lnTo>
                <a:lnTo>
                  <a:pt x="13299" y="10120"/>
                </a:lnTo>
                <a:lnTo>
                  <a:pt x="13419" y="10046"/>
                </a:lnTo>
                <a:lnTo>
                  <a:pt x="13496" y="9999"/>
                </a:lnTo>
                <a:lnTo>
                  <a:pt x="13536" y="9954"/>
                </a:lnTo>
                <a:lnTo>
                  <a:pt x="13593" y="9897"/>
                </a:lnTo>
                <a:lnTo>
                  <a:pt x="13687" y="9803"/>
                </a:lnTo>
                <a:lnTo>
                  <a:pt x="13765" y="9685"/>
                </a:lnTo>
                <a:lnTo>
                  <a:pt x="13841" y="9575"/>
                </a:lnTo>
                <a:lnTo>
                  <a:pt x="13913" y="9471"/>
                </a:lnTo>
                <a:lnTo>
                  <a:pt x="13979" y="9363"/>
                </a:lnTo>
                <a:lnTo>
                  <a:pt x="14039" y="9252"/>
                </a:lnTo>
                <a:lnTo>
                  <a:pt x="14094" y="9150"/>
                </a:lnTo>
                <a:lnTo>
                  <a:pt x="14150" y="9034"/>
                </a:lnTo>
                <a:lnTo>
                  <a:pt x="14213" y="8930"/>
                </a:lnTo>
                <a:lnTo>
                  <a:pt x="14309" y="8773"/>
                </a:lnTo>
                <a:lnTo>
                  <a:pt x="14402" y="8608"/>
                </a:lnTo>
                <a:lnTo>
                  <a:pt x="14511" y="8458"/>
                </a:lnTo>
                <a:lnTo>
                  <a:pt x="14756" y="8120"/>
                </a:lnTo>
                <a:lnTo>
                  <a:pt x="15081" y="7810"/>
                </a:lnTo>
                <a:lnTo>
                  <a:pt x="15354" y="7491"/>
                </a:lnTo>
                <a:lnTo>
                  <a:pt x="15470" y="7356"/>
                </a:lnTo>
                <a:lnTo>
                  <a:pt x="15525" y="7248"/>
                </a:lnTo>
                <a:lnTo>
                  <a:pt x="15602" y="7094"/>
                </a:lnTo>
                <a:lnTo>
                  <a:pt x="15650" y="6998"/>
                </a:lnTo>
                <a:lnTo>
                  <a:pt x="15722" y="6819"/>
                </a:lnTo>
                <a:lnTo>
                  <a:pt x="15677" y="6697"/>
                </a:lnTo>
                <a:lnTo>
                  <a:pt x="15663" y="6658"/>
                </a:lnTo>
                <a:lnTo>
                  <a:pt x="15653" y="6633"/>
                </a:lnTo>
                <a:lnTo>
                  <a:pt x="15627" y="6598"/>
                </a:lnTo>
                <a:lnTo>
                  <a:pt x="15586" y="6542"/>
                </a:lnTo>
                <a:lnTo>
                  <a:pt x="15507" y="6493"/>
                </a:lnTo>
                <a:lnTo>
                  <a:pt x="15453" y="6449"/>
                </a:lnTo>
                <a:lnTo>
                  <a:pt x="15243" y="6281"/>
                </a:lnTo>
                <a:lnTo>
                  <a:pt x="15018" y="6125"/>
                </a:lnTo>
                <a:lnTo>
                  <a:pt x="14808" y="5953"/>
                </a:lnTo>
                <a:lnTo>
                  <a:pt x="14697" y="5862"/>
                </a:lnTo>
                <a:lnTo>
                  <a:pt x="14577" y="5784"/>
                </a:lnTo>
                <a:lnTo>
                  <a:pt x="14461" y="5705"/>
                </a:lnTo>
                <a:lnTo>
                  <a:pt x="14325" y="5613"/>
                </a:lnTo>
                <a:lnTo>
                  <a:pt x="14184" y="5534"/>
                </a:lnTo>
                <a:lnTo>
                  <a:pt x="14039" y="5457"/>
                </a:lnTo>
                <a:lnTo>
                  <a:pt x="13853" y="5358"/>
                </a:lnTo>
                <a:lnTo>
                  <a:pt x="13642" y="5285"/>
                </a:lnTo>
                <a:lnTo>
                  <a:pt x="13444" y="5209"/>
                </a:lnTo>
                <a:lnTo>
                  <a:pt x="13355" y="5175"/>
                </a:lnTo>
                <a:lnTo>
                  <a:pt x="13284" y="5175"/>
                </a:lnTo>
                <a:lnTo>
                  <a:pt x="13196" y="5159"/>
                </a:lnTo>
                <a:lnTo>
                  <a:pt x="13160" y="5152"/>
                </a:lnTo>
                <a:lnTo>
                  <a:pt x="13129" y="5135"/>
                </a:lnTo>
                <a:lnTo>
                  <a:pt x="13097" y="5135"/>
                </a:lnTo>
                <a:lnTo>
                  <a:pt x="13032" y="5135"/>
                </a:lnTo>
                <a:lnTo>
                  <a:pt x="12977" y="5133"/>
                </a:lnTo>
                <a:lnTo>
                  <a:pt x="12923" y="5159"/>
                </a:lnTo>
                <a:lnTo>
                  <a:pt x="12915" y="5163"/>
                </a:lnTo>
                <a:lnTo>
                  <a:pt x="12875" y="5196"/>
                </a:lnTo>
                <a:lnTo>
                  <a:pt x="12849" y="5209"/>
                </a:lnTo>
                <a:lnTo>
                  <a:pt x="12809" y="5229"/>
                </a:lnTo>
                <a:lnTo>
                  <a:pt x="12819" y="5259"/>
                </a:lnTo>
                <a:lnTo>
                  <a:pt x="12774" y="5283"/>
                </a:lnTo>
                <a:lnTo>
                  <a:pt x="12745" y="5298"/>
                </a:lnTo>
                <a:lnTo>
                  <a:pt x="12716" y="5298"/>
                </a:lnTo>
                <a:lnTo>
                  <a:pt x="12700" y="5308"/>
                </a:lnTo>
                <a:lnTo>
                  <a:pt x="12670" y="5327"/>
                </a:lnTo>
                <a:lnTo>
                  <a:pt x="12650" y="5312"/>
                </a:lnTo>
                <a:lnTo>
                  <a:pt x="12626" y="5333"/>
                </a:lnTo>
                <a:lnTo>
                  <a:pt x="12613" y="5344"/>
                </a:lnTo>
                <a:lnTo>
                  <a:pt x="12614" y="5394"/>
                </a:lnTo>
                <a:lnTo>
                  <a:pt x="12601" y="5407"/>
                </a:lnTo>
                <a:lnTo>
                  <a:pt x="12585" y="5424"/>
                </a:lnTo>
                <a:lnTo>
                  <a:pt x="12540" y="5446"/>
                </a:lnTo>
                <a:lnTo>
                  <a:pt x="12526" y="5457"/>
                </a:lnTo>
                <a:lnTo>
                  <a:pt x="12480" y="5494"/>
                </a:lnTo>
                <a:lnTo>
                  <a:pt x="12498" y="5481"/>
                </a:lnTo>
                <a:lnTo>
                  <a:pt x="12452" y="5507"/>
                </a:lnTo>
                <a:lnTo>
                  <a:pt x="12425" y="5522"/>
                </a:lnTo>
                <a:lnTo>
                  <a:pt x="12409" y="5513"/>
                </a:lnTo>
                <a:lnTo>
                  <a:pt x="12378" y="5531"/>
                </a:lnTo>
                <a:lnTo>
                  <a:pt x="12350" y="5547"/>
                </a:lnTo>
                <a:lnTo>
                  <a:pt x="12348" y="5567"/>
                </a:lnTo>
                <a:lnTo>
                  <a:pt x="12328" y="5581"/>
                </a:lnTo>
                <a:lnTo>
                  <a:pt x="12292" y="5607"/>
                </a:lnTo>
                <a:lnTo>
                  <a:pt x="12293" y="5633"/>
                </a:lnTo>
                <a:lnTo>
                  <a:pt x="12254" y="5655"/>
                </a:lnTo>
                <a:lnTo>
                  <a:pt x="12220" y="5674"/>
                </a:lnTo>
                <a:lnTo>
                  <a:pt x="12207" y="5662"/>
                </a:lnTo>
                <a:lnTo>
                  <a:pt x="12179" y="5680"/>
                </a:lnTo>
                <a:lnTo>
                  <a:pt x="12171" y="5680"/>
                </a:lnTo>
                <a:lnTo>
                  <a:pt x="12162" y="5680"/>
                </a:lnTo>
                <a:lnTo>
                  <a:pt x="12154" y="56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ackground Facts on Andrew Jackso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drew Jackson was the seventh president of the United states for his greatness at the Battle of New Orlea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was the military governor of pre-admission Florida in 182</a:t>
            </a:r>
            <a:r>
              <a:rPr b="0" lang="en-US" sz="2700" spc="-1" strike="noStrike">
                <a:solidFill>
                  <a:srgbClr val="ffffff"/>
                </a:solidFill>
                <a:latin typeface="Georgia"/>
              </a:rPr>
              <a:t>1</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was the co</a:t>
            </a:r>
            <a:r>
              <a:rPr b="0" lang="en-US" sz="2700" spc="-1" strike="noStrike">
                <a:solidFill>
                  <a:srgbClr val="ffffff"/>
                </a:solidFill>
                <a:latin typeface="Georgia"/>
              </a:rPr>
              <a:t>mmander at the Ba</a:t>
            </a:r>
            <a:r>
              <a:rPr b="0" lang="en-US" sz="2700" spc="-1" strike="noStrike">
                <a:solidFill>
                  <a:srgbClr val="000000"/>
                </a:solidFill>
                <a:latin typeface="Georgia"/>
              </a:rPr>
              <a:t>ttle</a:t>
            </a:r>
            <a:r>
              <a:rPr b="0" lang="en-US" sz="2700" spc="-1" strike="noStrike">
                <a:solidFill>
                  <a:srgbClr val="ffffff"/>
                </a:solidFill>
                <a:latin typeface="Georgia"/>
              </a:rPr>
              <a:t> </a:t>
            </a:r>
            <a:r>
              <a:rPr b="0" lang="en-US" sz="2700" spc="-1" strike="noStrike">
                <a:solidFill>
                  <a:srgbClr val="000000"/>
                </a:solidFill>
                <a:latin typeface="Georgia"/>
              </a:rPr>
              <a:t>of New Orleans.</a:t>
            </a:r>
            <a:endParaRPr b="0" lang="en-US" sz="2700" spc="-1" strike="noStrike">
              <a:solidFill>
                <a:srgbClr val="000000"/>
              </a:solidFill>
              <a:latin typeface="Georgia"/>
            </a:endParaRPr>
          </a:p>
        </p:txBody>
      </p:sp>
      <p:pic>
        <p:nvPicPr>
          <p:cNvPr id="626" name="Picture 2" descr="http://www.warof1812.ca/image/jackson.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battle of Lake Borgne</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9" name="Picture 2" descr="http://cdn.dipity.com/uploads/events/b248ca50f42c13371726309e731488c6_1M.png"/>
          <p:cNvPicPr/>
          <p:nvPr/>
        </p:nvPicPr>
        <p:blipFill>
          <a:blip r:embed="rId1"/>
          <a:stretch/>
        </p:blipFill>
        <p:spPr>
          <a:xfrm>
            <a:off x="0" y="1371600"/>
            <a:ext cx="9144000" cy="5486400"/>
          </a:xfrm>
          <a:prstGeom prst="rect">
            <a:avLst/>
          </a:prstGeom>
          <a:ln w="0">
            <a:noFill/>
          </a:ln>
        </p:spPr>
      </p:pic>
      <p:sp>
        <p:nvSpPr>
          <p:cNvPr id="630" name="Ink 1"/>
          <p:cNvSpPr/>
          <p:nvPr/>
        </p:nvSpPr>
        <p:spPr>
          <a:xfrm>
            <a:off x="2857680" y="5187960"/>
            <a:ext cx="9360" cy="1440"/>
          </a:xfrm>
          <a:custGeom>
            <a:avLst/>
            <a:gdLst/>
            <a:ahLst/>
            <a:rect l="l" t="t" r="r" b="b"/>
            <a:pathLst>
              <a:path w="25" h="1">
                <a:moveTo>
                  <a:pt x="7938" y="14412"/>
                </a:moveTo>
                <a:lnTo>
                  <a:pt x="7946" y="14412"/>
                </a:lnTo>
                <a:lnTo>
                  <a:pt x="7954" y="14412"/>
                </a:lnTo>
                <a:lnTo>
                  <a:pt x="7962" y="14412"/>
                </a:lnTo>
                <a:close/>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attle of December 23rd</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3" name="Picture 2" descr="http://www.historicalartprints.com/images/product_small/Battle-of-New-Orleans-lrg-.jpg"/>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attle of January 8</a:t>
            </a:r>
            <a:r>
              <a:rPr b="0" lang="en-US" sz="3300" spc="-1" strike="noStrike" baseline="30000">
                <a:solidFill>
                  <a:srgbClr val="7b9899"/>
                </a:solidFill>
                <a:latin typeface="Georgia"/>
              </a:rPr>
              <a:t>th</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6" name="Picture 2" descr="http://lh3.ggpht.com/_gD8iweVRLHY/Snyx43a3L5I/AAAAAAAABeo/5Aif0C30RzM/FirstWar1812BattleNewOrleans1.jpg"/>
          <p:cNvPicPr/>
          <p:nvPr/>
        </p:nvPicPr>
        <p:blipFill>
          <a:blip r:embed="rId1"/>
          <a:stretch/>
        </p:blipFill>
        <p:spPr>
          <a:xfrm>
            <a:off x="0" y="13716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p of American and British positions</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9" name="Picture 2" descr="http://www.cr.nps.gov/history/online_books/jela/images/fig7.jpg"/>
          <p:cNvPicPr/>
          <p:nvPr/>
        </p:nvPicPr>
        <p:blipFill>
          <a:blip r:embed="rId1"/>
          <a:stretch/>
        </p:blipFill>
        <p:spPr>
          <a:xfrm>
            <a:off x="0" y="1447920"/>
            <a:ext cx="8991720" cy="5449680"/>
          </a:xfrm>
          <a:prstGeom prst="rect">
            <a:avLst/>
          </a:prstGeom>
          <a:ln w="0">
            <a:noFill/>
          </a:ln>
        </p:spPr>
      </p:pic>
      <p:sp>
        <p:nvSpPr>
          <p:cNvPr id="640" name="Ink 1"/>
          <p:cNvSpPr/>
          <p:nvPr/>
        </p:nvSpPr>
        <p:spPr>
          <a:xfrm>
            <a:off x="0" y="3938760"/>
            <a:ext cx="7707240" cy="2919240"/>
          </a:xfrm>
          <a:custGeom>
            <a:avLst/>
            <a:gdLst/>
            <a:ahLst/>
            <a:rect l="l" t="t" r="r" b="b"/>
            <a:pathLst>
              <a:path w="21407" h="8112">
                <a:moveTo>
                  <a:pt x="744" y="11311"/>
                </a:moveTo>
                <a:lnTo>
                  <a:pt x="627" y="11389"/>
                </a:lnTo>
                <a:lnTo>
                  <a:pt x="234" y="11394"/>
                </a:lnTo>
                <a:lnTo>
                  <a:pt x="149" y="11534"/>
                </a:lnTo>
                <a:lnTo>
                  <a:pt x="1" y="11779"/>
                </a:lnTo>
                <a:lnTo>
                  <a:pt x="-39" y="12120"/>
                </a:lnTo>
                <a:lnTo>
                  <a:pt x="25" y="12378"/>
                </a:lnTo>
                <a:lnTo>
                  <a:pt x="40" y="12440"/>
                </a:lnTo>
                <a:lnTo>
                  <a:pt x="258" y="12504"/>
                </a:lnTo>
                <a:lnTo>
                  <a:pt x="298" y="12551"/>
                </a:lnTo>
                <a:lnTo>
                  <a:pt x="341" y="12601"/>
                </a:lnTo>
                <a:lnTo>
                  <a:pt x="402" y="12629"/>
                </a:lnTo>
                <a:lnTo>
                  <a:pt x="446" y="12675"/>
                </a:lnTo>
                <a:lnTo>
                  <a:pt x="482" y="12713"/>
                </a:lnTo>
                <a:lnTo>
                  <a:pt x="539" y="12760"/>
                </a:lnTo>
                <a:lnTo>
                  <a:pt x="595" y="12799"/>
                </a:lnTo>
                <a:lnTo>
                  <a:pt x="688" y="12863"/>
                </a:lnTo>
                <a:lnTo>
                  <a:pt x="776" y="12913"/>
                </a:lnTo>
                <a:lnTo>
                  <a:pt x="868" y="12973"/>
                </a:lnTo>
                <a:lnTo>
                  <a:pt x="933" y="13016"/>
                </a:lnTo>
                <a:lnTo>
                  <a:pt x="1021" y="13068"/>
                </a:lnTo>
                <a:lnTo>
                  <a:pt x="1067" y="13097"/>
                </a:lnTo>
                <a:lnTo>
                  <a:pt x="1135" y="13140"/>
                </a:lnTo>
                <a:lnTo>
                  <a:pt x="1188" y="13182"/>
                </a:lnTo>
                <a:lnTo>
                  <a:pt x="1265" y="13221"/>
                </a:lnTo>
                <a:lnTo>
                  <a:pt x="1356" y="13267"/>
                </a:lnTo>
                <a:lnTo>
                  <a:pt x="1440" y="13304"/>
                </a:lnTo>
                <a:lnTo>
                  <a:pt x="1538" y="13345"/>
                </a:lnTo>
                <a:lnTo>
                  <a:pt x="1599" y="13371"/>
                </a:lnTo>
                <a:lnTo>
                  <a:pt x="1691" y="13401"/>
                </a:lnTo>
                <a:lnTo>
                  <a:pt x="1736" y="13419"/>
                </a:lnTo>
                <a:lnTo>
                  <a:pt x="1776" y="13434"/>
                </a:lnTo>
                <a:lnTo>
                  <a:pt x="1779" y="13433"/>
                </a:lnTo>
                <a:lnTo>
                  <a:pt x="1811" y="13444"/>
                </a:lnTo>
                <a:lnTo>
                  <a:pt x="1888" y="13470"/>
                </a:lnTo>
                <a:lnTo>
                  <a:pt x="1975" y="13495"/>
                </a:lnTo>
                <a:lnTo>
                  <a:pt x="2059" y="13519"/>
                </a:lnTo>
                <a:lnTo>
                  <a:pt x="2138" y="13542"/>
                </a:lnTo>
                <a:lnTo>
                  <a:pt x="2284" y="13611"/>
                </a:lnTo>
                <a:lnTo>
                  <a:pt x="2332" y="13618"/>
                </a:lnTo>
                <a:lnTo>
                  <a:pt x="2695" y="13672"/>
                </a:lnTo>
                <a:lnTo>
                  <a:pt x="3080" y="13626"/>
                </a:lnTo>
                <a:lnTo>
                  <a:pt x="3423" y="13643"/>
                </a:lnTo>
                <a:lnTo>
                  <a:pt x="3667" y="13655"/>
                </a:lnTo>
                <a:lnTo>
                  <a:pt x="3947" y="13663"/>
                </a:lnTo>
                <a:lnTo>
                  <a:pt x="4192" y="13692"/>
                </a:lnTo>
                <a:lnTo>
                  <a:pt x="4313" y="13706"/>
                </a:lnTo>
                <a:lnTo>
                  <a:pt x="4421" y="13706"/>
                </a:lnTo>
                <a:lnTo>
                  <a:pt x="4539" y="13742"/>
                </a:lnTo>
                <a:lnTo>
                  <a:pt x="4656" y="13778"/>
                </a:lnTo>
                <a:lnTo>
                  <a:pt x="4768" y="13830"/>
                </a:lnTo>
                <a:lnTo>
                  <a:pt x="4887" y="13891"/>
                </a:lnTo>
                <a:lnTo>
                  <a:pt x="4971" y="13934"/>
                </a:lnTo>
                <a:lnTo>
                  <a:pt x="5085" y="14012"/>
                </a:lnTo>
                <a:lnTo>
                  <a:pt x="5159" y="14064"/>
                </a:lnTo>
                <a:lnTo>
                  <a:pt x="5589" y="14365"/>
                </a:lnTo>
                <a:lnTo>
                  <a:pt x="5917" y="14693"/>
                </a:lnTo>
                <a:lnTo>
                  <a:pt x="6449" y="14833"/>
                </a:lnTo>
                <a:lnTo>
                  <a:pt x="6677" y="14893"/>
                </a:lnTo>
                <a:lnTo>
                  <a:pt x="6885" y="14870"/>
                </a:lnTo>
                <a:lnTo>
                  <a:pt x="7094" y="14932"/>
                </a:lnTo>
                <a:lnTo>
                  <a:pt x="7215" y="14968"/>
                </a:lnTo>
                <a:lnTo>
                  <a:pt x="7315" y="14976"/>
                </a:lnTo>
                <a:lnTo>
                  <a:pt x="7441" y="15032"/>
                </a:lnTo>
                <a:lnTo>
                  <a:pt x="7566" y="15088"/>
                </a:lnTo>
                <a:lnTo>
                  <a:pt x="7666" y="15231"/>
                </a:lnTo>
                <a:lnTo>
                  <a:pt x="7789" y="15280"/>
                </a:lnTo>
                <a:lnTo>
                  <a:pt x="7851" y="15305"/>
                </a:lnTo>
                <a:lnTo>
                  <a:pt x="7923" y="15299"/>
                </a:lnTo>
                <a:lnTo>
                  <a:pt x="7987" y="15329"/>
                </a:lnTo>
                <a:lnTo>
                  <a:pt x="8043" y="15356"/>
                </a:lnTo>
                <a:lnTo>
                  <a:pt x="8105" y="15322"/>
                </a:lnTo>
                <a:lnTo>
                  <a:pt x="8161" y="15354"/>
                </a:lnTo>
                <a:lnTo>
                  <a:pt x="8220" y="15388"/>
                </a:lnTo>
                <a:lnTo>
                  <a:pt x="8229" y="15448"/>
                </a:lnTo>
                <a:lnTo>
                  <a:pt x="8285" y="15478"/>
                </a:lnTo>
                <a:lnTo>
                  <a:pt x="8458" y="15571"/>
                </a:lnTo>
                <a:lnTo>
                  <a:pt x="8667" y="15653"/>
                </a:lnTo>
                <a:lnTo>
                  <a:pt x="8781" y="15726"/>
                </a:lnTo>
                <a:lnTo>
                  <a:pt x="8866" y="15781"/>
                </a:lnTo>
                <a:lnTo>
                  <a:pt x="8943" y="15869"/>
                </a:lnTo>
                <a:lnTo>
                  <a:pt x="9029" y="15925"/>
                </a:lnTo>
                <a:lnTo>
                  <a:pt x="9022" y="15896"/>
                </a:lnTo>
                <a:lnTo>
                  <a:pt x="8989" y="15778"/>
                </a:lnTo>
                <a:lnTo>
                  <a:pt x="8979" y="15726"/>
                </a:lnTo>
                <a:lnTo>
                  <a:pt x="8979" y="15718"/>
                </a:lnTo>
                <a:lnTo>
                  <a:pt x="8979" y="15709"/>
                </a:lnTo>
                <a:lnTo>
                  <a:pt x="8979" y="15701"/>
                </a:lnTo>
                <a:lnTo>
                  <a:pt x="9056" y="15712"/>
                </a:lnTo>
                <a:lnTo>
                  <a:pt x="9104" y="15726"/>
                </a:lnTo>
                <a:lnTo>
                  <a:pt x="9178" y="15751"/>
                </a:lnTo>
                <a:lnTo>
                  <a:pt x="9096" y="15745"/>
                </a:lnTo>
                <a:lnTo>
                  <a:pt x="9066" y="15740"/>
                </a:lnTo>
                <a:lnTo>
                  <a:pt x="9004" y="15726"/>
                </a:lnTo>
                <a:lnTo>
                  <a:pt x="9038" y="15784"/>
                </a:lnTo>
                <a:lnTo>
                  <a:pt x="8999" y="15931"/>
                </a:lnTo>
                <a:lnTo>
                  <a:pt x="9103" y="16049"/>
                </a:lnTo>
                <a:lnTo>
                  <a:pt x="9138" y="16089"/>
                </a:lnTo>
                <a:lnTo>
                  <a:pt x="9153" y="16122"/>
                </a:lnTo>
                <a:lnTo>
                  <a:pt x="9178" y="16148"/>
                </a:lnTo>
                <a:lnTo>
                  <a:pt x="9220" y="16191"/>
                </a:lnTo>
                <a:lnTo>
                  <a:pt x="9321" y="16259"/>
                </a:lnTo>
                <a:lnTo>
                  <a:pt x="9376" y="16297"/>
                </a:lnTo>
                <a:lnTo>
                  <a:pt x="9424" y="16331"/>
                </a:lnTo>
                <a:lnTo>
                  <a:pt x="9487" y="16372"/>
                </a:lnTo>
                <a:lnTo>
                  <a:pt x="9525" y="16396"/>
                </a:lnTo>
                <a:lnTo>
                  <a:pt x="9594" y="16440"/>
                </a:lnTo>
                <a:lnTo>
                  <a:pt x="9700" y="16455"/>
                </a:lnTo>
                <a:lnTo>
                  <a:pt x="9773" y="16495"/>
                </a:lnTo>
                <a:lnTo>
                  <a:pt x="9787" y="16503"/>
                </a:lnTo>
                <a:lnTo>
                  <a:pt x="9838" y="16556"/>
                </a:lnTo>
                <a:lnTo>
                  <a:pt x="9872" y="16570"/>
                </a:lnTo>
                <a:lnTo>
                  <a:pt x="10008" y="16624"/>
                </a:lnTo>
                <a:lnTo>
                  <a:pt x="10160" y="16645"/>
                </a:lnTo>
                <a:lnTo>
                  <a:pt x="10294" y="16694"/>
                </a:lnTo>
                <a:lnTo>
                  <a:pt x="10349" y="16714"/>
                </a:lnTo>
                <a:lnTo>
                  <a:pt x="10413" y="16721"/>
                </a:lnTo>
                <a:lnTo>
                  <a:pt x="10468" y="16743"/>
                </a:lnTo>
                <a:lnTo>
                  <a:pt x="10513" y="16761"/>
                </a:lnTo>
                <a:lnTo>
                  <a:pt x="10534" y="16807"/>
                </a:lnTo>
                <a:lnTo>
                  <a:pt x="10567" y="16818"/>
                </a:lnTo>
                <a:lnTo>
                  <a:pt x="10616" y="16834"/>
                </a:lnTo>
                <a:lnTo>
                  <a:pt x="10658" y="16856"/>
                </a:lnTo>
                <a:lnTo>
                  <a:pt x="10691" y="16867"/>
                </a:lnTo>
                <a:lnTo>
                  <a:pt x="10794" y="16901"/>
                </a:lnTo>
                <a:lnTo>
                  <a:pt x="10913" y="16927"/>
                </a:lnTo>
                <a:lnTo>
                  <a:pt x="11013" y="16966"/>
                </a:lnTo>
                <a:lnTo>
                  <a:pt x="11097" y="16999"/>
                </a:lnTo>
                <a:lnTo>
                  <a:pt x="11192" y="17026"/>
                </a:lnTo>
                <a:lnTo>
                  <a:pt x="11286" y="17066"/>
                </a:lnTo>
                <a:lnTo>
                  <a:pt x="11422" y="17124"/>
                </a:lnTo>
                <a:lnTo>
                  <a:pt x="11541" y="17201"/>
                </a:lnTo>
                <a:lnTo>
                  <a:pt x="11683" y="17264"/>
                </a:lnTo>
                <a:lnTo>
                  <a:pt x="11803" y="17317"/>
                </a:lnTo>
                <a:lnTo>
                  <a:pt x="11905" y="17394"/>
                </a:lnTo>
                <a:lnTo>
                  <a:pt x="12030" y="17438"/>
                </a:lnTo>
                <a:lnTo>
                  <a:pt x="12163" y="17485"/>
                </a:lnTo>
                <a:lnTo>
                  <a:pt x="12329" y="17487"/>
                </a:lnTo>
                <a:lnTo>
                  <a:pt x="12452" y="17537"/>
                </a:lnTo>
                <a:lnTo>
                  <a:pt x="12515" y="17563"/>
                </a:lnTo>
                <a:lnTo>
                  <a:pt x="12608" y="17564"/>
                </a:lnTo>
                <a:lnTo>
                  <a:pt x="12650" y="17587"/>
                </a:lnTo>
                <a:lnTo>
                  <a:pt x="12716" y="17624"/>
                </a:lnTo>
                <a:lnTo>
                  <a:pt x="12747" y="17667"/>
                </a:lnTo>
                <a:lnTo>
                  <a:pt x="12799" y="17711"/>
                </a:lnTo>
                <a:lnTo>
                  <a:pt x="12840" y="17745"/>
                </a:lnTo>
                <a:lnTo>
                  <a:pt x="12887" y="17750"/>
                </a:lnTo>
                <a:lnTo>
                  <a:pt x="12923" y="17785"/>
                </a:lnTo>
                <a:lnTo>
                  <a:pt x="12948" y="17809"/>
                </a:lnTo>
                <a:lnTo>
                  <a:pt x="12960" y="17848"/>
                </a:lnTo>
                <a:lnTo>
                  <a:pt x="12973" y="17859"/>
                </a:lnTo>
                <a:lnTo>
                  <a:pt x="13014" y="17893"/>
                </a:lnTo>
                <a:lnTo>
                  <a:pt x="12960" y="17988"/>
                </a:lnTo>
                <a:lnTo>
                  <a:pt x="13022" y="18033"/>
                </a:lnTo>
                <a:lnTo>
                  <a:pt x="13038" y="18044"/>
                </a:lnTo>
                <a:lnTo>
                  <a:pt x="13053" y="18068"/>
                </a:lnTo>
                <a:lnTo>
                  <a:pt x="13072" y="18083"/>
                </a:lnTo>
                <a:lnTo>
                  <a:pt x="13119" y="18119"/>
                </a:lnTo>
                <a:lnTo>
                  <a:pt x="13219" y="18098"/>
                </a:lnTo>
                <a:lnTo>
                  <a:pt x="13271" y="18132"/>
                </a:lnTo>
                <a:lnTo>
                  <a:pt x="13294" y="18147"/>
                </a:lnTo>
                <a:lnTo>
                  <a:pt x="13308" y="18186"/>
                </a:lnTo>
                <a:lnTo>
                  <a:pt x="13345" y="18207"/>
                </a:lnTo>
                <a:lnTo>
                  <a:pt x="13397" y="18236"/>
                </a:lnTo>
                <a:lnTo>
                  <a:pt x="13410" y="18238"/>
                </a:lnTo>
                <a:lnTo>
                  <a:pt x="13444" y="18256"/>
                </a:lnTo>
                <a:lnTo>
                  <a:pt x="13475" y="18273"/>
                </a:lnTo>
                <a:lnTo>
                  <a:pt x="13528" y="18298"/>
                </a:lnTo>
                <a:lnTo>
                  <a:pt x="13543" y="18306"/>
                </a:lnTo>
                <a:lnTo>
                  <a:pt x="13595" y="18335"/>
                </a:lnTo>
                <a:lnTo>
                  <a:pt x="13609" y="18339"/>
                </a:lnTo>
                <a:lnTo>
                  <a:pt x="13643" y="18355"/>
                </a:lnTo>
                <a:lnTo>
                  <a:pt x="13667" y="18355"/>
                </a:lnTo>
                <a:lnTo>
                  <a:pt x="13676" y="18355"/>
                </a:lnTo>
                <a:lnTo>
                  <a:pt x="13692" y="18355"/>
                </a:lnTo>
                <a:lnTo>
                  <a:pt x="13710" y="18427"/>
                </a:lnTo>
                <a:lnTo>
                  <a:pt x="13755" y="18480"/>
                </a:lnTo>
                <a:lnTo>
                  <a:pt x="13767" y="18554"/>
                </a:lnTo>
                <a:lnTo>
                  <a:pt x="13788" y="18690"/>
                </a:lnTo>
                <a:lnTo>
                  <a:pt x="13809" y="18971"/>
                </a:lnTo>
                <a:lnTo>
                  <a:pt x="13816" y="19050"/>
                </a:lnTo>
                <a:lnTo>
                  <a:pt x="13849" y="19048"/>
                </a:lnTo>
                <a:lnTo>
                  <a:pt x="13783" y="19052"/>
                </a:lnTo>
                <a:lnTo>
                  <a:pt x="13816" y="19050"/>
                </a:lnTo>
                <a:lnTo>
                  <a:pt x="13888" y="19046"/>
                </a:lnTo>
                <a:lnTo>
                  <a:pt x="13984" y="19026"/>
                </a:lnTo>
                <a:lnTo>
                  <a:pt x="14015" y="19025"/>
                </a:lnTo>
                <a:lnTo>
                  <a:pt x="14152" y="19021"/>
                </a:lnTo>
                <a:lnTo>
                  <a:pt x="14264" y="19026"/>
                </a:lnTo>
                <a:lnTo>
                  <a:pt x="14387" y="19025"/>
                </a:lnTo>
                <a:lnTo>
                  <a:pt x="14956" y="19021"/>
                </a:lnTo>
                <a:lnTo>
                  <a:pt x="15511" y="19028"/>
                </a:lnTo>
                <a:lnTo>
                  <a:pt x="16073" y="19025"/>
                </a:lnTo>
                <a:lnTo>
                  <a:pt x="16414" y="19023"/>
                </a:lnTo>
                <a:lnTo>
                  <a:pt x="16721" y="19015"/>
                </a:lnTo>
                <a:lnTo>
                  <a:pt x="17041" y="18951"/>
                </a:lnTo>
                <a:lnTo>
                  <a:pt x="17278" y="18904"/>
                </a:lnTo>
                <a:lnTo>
                  <a:pt x="17543" y="18862"/>
                </a:lnTo>
                <a:lnTo>
                  <a:pt x="17760" y="18777"/>
                </a:lnTo>
                <a:lnTo>
                  <a:pt x="18040" y="18667"/>
                </a:lnTo>
                <a:lnTo>
                  <a:pt x="18267" y="18566"/>
                </a:lnTo>
                <a:lnTo>
                  <a:pt x="18529" y="18455"/>
                </a:lnTo>
                <a:lnTo>
                  <a:pt x="18623" y="18415"/>
                </a:lnTo>
                <a:lnTo>
                  <a:pt x="18710" y="18396"/>
                </a:lnTo>
                <a:lnTo>
                  <a:pt x="18802" y="18355"/>
                </a:lnTo>
                <a:lnTo>
                  <a:pt x="18928" y="18298"/>
                </a:lnTo>
                <a:lnTo>
                  <a:pt x="19057" y="18216"/>
                </a:lnTo>
                <a:lnTo>
                  <a:pt x="19174" y="18157"/>
                </a:lnTo>
                <a:lnTo>
                  <a:pt x="19306" y="18091"/>
                </a:lnTo>
                <a:lnTo>
                  <a:pt x="19452" y="18035"/>
                </a:lnTo>
                <a:lnTo>
                  <a:pt x="19571" y="17959"/>
                </a:lnTo>
                <a:lnTo>
                  <a:pt x="19872" y="17765"/>
                </a:lnTo>
                <a:lnTo>
                  <a:pt x="20132" y="17591"/>
                </a:lnTo>
                <a:lnTo>
                  <a:pt x="20464" y="17438"/>
                </a:lnTo>
                <a:lnTo>
                  <a:pt x="20742" y="17310"/>
                </a:lnTo>
                <a:lnTo>
                  <a:pt x="21064" y="17219"/>
                </a:lnTo>
                <a:lnTo>
                  <a:pt x="21332" y="17090"/>
                </a:lnTo>
                <a:lnTo>
                  <a:pt x="21362" y="17076"/>
                </a:lnTo>
                <a:lnTo>
                  <a:pt x="21377" y="17030"/>
                </a:lnTo>
                <a:lnTo>
                  <a:pt x="21406" y="17016"/>
                </a:lnTo>
                <a:lnTo>
                  <a:pt x="21392" y="17008"/>
                </a:lnTo>
                <a:lnTo>
                  <a:pt x="21349" y="16979"/>
                </a:lnTo>
                <a:lnTo>
                  <a:pt x="21332" y="16966"/>
                </a:lnTo>
                <a:lnTo>
                  <a:pt x="21318" y="16955"/>
                </a:lnTo>
                <a:lnTo>
                  <a:pt x="21326" y="16901"/>
                </a:lnTo>
                <a:lnTo>
                  <a:pt x="21307" y="16892"/>
                </a:lnTo>
                <a:lnTo>
                  <a:pt x="21289" y="16883"/>
                </a:lnTo>
                <a:lnTo>
                  <a:pt x="21265" y="16844"/>
                </a:lnTo>
                <a:lnTo>
                  <a:pt x="21258" y="16842"/>
                </a:lnTo>
                <a:lnTo>
                  <a:pt x="21223" y="16830"/>
                </a:lnTo>
                <a:lnTo>
                  <a:pt x="21229" y="16830"/>
                </a:lnTo>
                <a:lnTo>
                  <a:pt x="21183" y="16818"/>
                </a:lnTo>
                <a:lnTo>
                  <a:pt x="21146" y="16808"/>
                </a:lnTo>
                <a:lnTo>
                  <a:pt x="21158" y="16803"/>
                </a:lnTo>
                <a:lnTo>
                  <a:pt x="21109" y="16793"/>
                </a:lnTo>
                <a:lnTo>
                  <a:pt x="21070" y="16785"/>
                </a:lnTo>
                <a:lnTo>
                  <a:pt x="21086" y="16775"/>
                </a:lnTo>
                <a:lnTo>
                  <a:pt x="21034" y="16768"/>
                </a:lnTo>
                <a:lnTo>
                  <a:pt x="20687" y="16722"/>
                </a:lnTo>
                <a:lnTo>
                  <a:pt x="20281" y="16791"/>
                </a:lnTo>
                <a:lnTo>
                  <a:pt x="19918" y="16793"/>
                </a:lnTo>
                <a:lnTo>
                  <a:pt x="19433" y="16796"/>
                </a:lnTo>
                <a:lnTo>
                  <a:pt x="18885" y="16802"/>
                </a:lnTo>
                <a:lnTo>
                  <a:pt x="18455" y="16743"/>
                </a:lnTo>
                <a:lnTo>
                  <a:pt x="18372" y="16732"/>
                </a:lnTo>
                <a:lnTo>
                  <a:pt x="18310" y="16733"/>
                </a:lnTo>
                <a:lnTo>
                  <a:pt x="18231" y="16718"/>
                </a:lnTo>
                <a:lnTo>
                  <a:pt x="18181" y="16709"/>
                </a:lnTo>
                <a:lnTo>
                  <a:pt x="18125" y="16675"/>
                </a:lnTo>
                <a:lnTo>
                  <a:pt x="18083" y="16669"/>
                </a:lnTo>
                <a:lnTo>
                  <a:pt x="17999" y="16657"/>
                </a:lnTo>
                <a:lnTo>
                  <a:pt x="17907" y="16626"/>
                </a:lnTo>
                <a:lnTo>
                  <a:pt x="17835" y="16619"/>
                </a:lnTo>
                <a:lnTo>
                  <a:pt x="17555" y="16593"/>
                </a:lnTo>
                <a:lnTo>
                  <a:pt x="17287" y="16591"/>
                </a:lnTo>
                <a:lnTo>
                  <a:pt x="17016" y="16570"/>
                </a:lnTo>
                <a:lnTo>
                  <a:pt x="16841" y="16557"/>
                </a:lnTo>
                <a:lnTo>
                  <a:pt x="16678" y="16570"/>
                </a:lnTo>
                <a:lnTo>
                  <a:pt x="16570" y="16520"/>
                </a:lnTo>
                <a:lnTo>
                  <a:pt x="16469" y="16473"/>
                </a:lnTo>
                <a:lnTo>
                  <a:pt x="16394" y="16419"/>
                </a:lnTo>
                <a:lnTo>
                  <a:pt x="16321" y="16346"/>
                </a:lnTo>
                <a:lnTo>
                  <a:pt x="16296" y="16321"/>
                </a:lnTo>
                <a:lnTo>
                  <a:pt x="16295" y="16275"/>
                </a:lnTo>
                <a:lnTo>
                  <a:pt x="16272" y="16247"/>
                </a:lnTo>
                <a:lnTo>
                  <a:pt x="16254" y="16225"/>
                </a:lnTo>
                <a:lnTo>
                  <a:pt x="16264" y="16193"/>
                </a:lnTo>
                <a:lnTo>
                  <a:pt x="16247" y="16173"/>
                </a:lnTo>
                <a:lnTo>
                  <a:pt x="16218" y="16137"/>
                </a:lnTo>
                <a:lnTo>
                  <a:pt x="16216" y="16124"/>
                </a:lnTo>
                <a:lnTo>
                  <a:pt x="16197" y="16098"/>
                </a:lnTo>
                <a:lnTo>
                  <a:pt x="16168" y="16060"/>
                </a:lnTo>
                <a:lnTo>
                  <a:pt x="16138" y="16019"/>
                </a:lnTo>
                <a:lnTo>
                  <a:pt x="16123" y="15999"/>
                </a:lnTo>
                <a:lnTo>
                  <a:pt x="16060" y="15911"/>
                </a:lnTo>
                <a:lnTo>
                  <a:pt x="16014" y="15821"/>
                </a:lnTo>
                <a:lnTo>
                  <a:pt x="15949" y="15751"/>
                </a:lnTo>
                <a:lnTo>
                  <a:pt x="15935" y="15736"/>
                </a:lnTo>
                <a:lnTo>
                  <a:pt x="15893" y="15719"/>
                </a:lnTo>
                <a:lnTo>
                  <a:pt x="15875" y="15701"/>
                </a:lnTo>
                <a:lnTo>
                  <a:pt x="15829" y="15656"/>
                </a:lnTo>
                <a:lnTo>
                  <a:pt x="15724" y="15527"/>
                </a:lnTo>
                <a:lnTo>
                  <a:pt x="15677" y="15503"/>
                </a:lnTo>
                <a:lnTo>
                  <a:pt x="15637" y="15482"/>
                </a:lnTo>
                <a:lnTo>
                  <a:pt x="15525" y="15410"/>
                </a:lnTo>
                <a:lnTo>
                  <a:pt x="15503" y="15404"/>
                </a:lnTo>
                <a:lnTo>
                  <a:pt x="14990" y="15258"/>
                </a:lnTo>
                <a:lnTo>
                  <a:pt x="14371" y="15463"/>
                </a:lnTo>
                <a:lnTo>
                  <a:pt x="13841" y="15379"/>
                </a:lnTo>
                <a:lnTo>
                  <a:pt x="13692" y="15355"/>
                </a:lnTo>
                <a:lnTo>
                  <a:pt x="13566" y="15277"/>
                </a:lnTo>
                <a:lnTo>
                  <a:pt x="13419" y="15255"/>
                </a:lnTo>
                <a:lnTo>
                  <a:pt x="13336" y="15243"/>
                </a:lnTo>
                <a:lnTo>
                  <a:pt x="13278" y="15219"/>
                </a:lnTo>
                <a:lnTo>
                  <a:pt x="13196" y="15205"/>
                </a:lnTo>
                <a:lnTo>
                  <a:pt x="12998" y="15170"/>
                </a:lnTo>
                <a:lnTo>
                  <a:pt x="12819" y="15176"/>
                </a:lnTo>
                <a:lnTo>
                  <a:pt x="12626" y="15131"/>
                </a:lnTo>
                <a:lnTo>
                  <a:pt x="12532" y="15109"/>
                </a:lnTo>
                <a:lnTo>
                  <a:pt x="12418" y="15085"/>
                </a:lnTo>
                <a:lnTo>
                  <a:pt x="12328" y="15056"/>
                </a:lnTo>
                <a:lnTo>
                  <a:pt x="12168" y="15005"/>
                </a:lnTo>
                <a:lnTo>
                  <a:pt x="11994" y="14926"/>
                </a:lnTo>
                <a:lnTo>
                  <a:pt x="11832" y="14858"/>
                </a:lnTo>
                <a:lnTo>
                  <a:pt x="11779" y="14836"/>
                </a:lnTo>
                <a:lnTo>
                  <a:pt x="11730" y="14806"/>
                </a:lnTo>
                <a:lnTo>
                  <a:pt x="11683" y="14784"/>
                </a:lnTo>
                <a:lnTo>
                  <a:pt x="11590" y="14739"/>
                </a:lnTo>
                <a:lnTo>
                  <a:pt x="11502" y="14717"/>
                </a:lnTo>
                <a:lnTo>
                  <a:pt x="11410" y="14660"/>
                </a:lnTo>
                <a:lnTo>
                  <a:pt x="11349" y="14622"/>
                </a:lnTo>
                <a:lnTo>
                  <a:pt x="11342" y="14593"/>
                </a:lnTo>
                <a:lnTo>
                  <a:pt x="11286" y="14560"/>
                </a:lnTo>
                <a:lnTo>
                  <a:pt x="11226" y="14524"/>
                </a:lnTo>
                <a:lnTo>
                  <a:pt x="11170" y="14501"/>
                </a:lnTo>
                <a:lnTo>
                  <a:pt x="11112" y="14461"/>
                </a:lnTo>
                <a:lnTo>
                  <a:pt x="10960" y="14356"/>
                </a:lnTo>
                <a:lnTo>
                  <a:pt x="10826" y="14204"/>
                </a:lnTo>
                <a:lnTo>
                  <a:pt x="10666" y="14089"/>
                </a:lnTo>
                <a:lnTo>
                  <a:pt x="10396" y="13894"/>
                </a:lnTo>
                <a:lnTo>
                  <a:pt x="10136" y="13694"/>
                </a:lnTo>
                <a:lnTo>
                  <a:pt x="9872" y="13494"/>
                </a:lnTo>
                <a:lnTo>
                  <a:pt x="9736" y="13391"/>
                </a:lnTo>
                <a:lnTo>
                  <a:pt x="9582" y="13292"/>
                </a:lnTo>
                <a:lnTo>
                  <a:pt x="9451" y="13196"/>
                </a:lnTo>
                <a:lnTo>
                  <a:pt x="9400" y="13159"/>
                </a:lnTo>
                <a:lnTo>
                  <a:pt x="9369" y="13128"/>
                </a:lnTo>
                <a:lnTo>
                  <a:pt x="9327" y="13097"/>
                </a:lnTo>
                <a:lnTo>
                  <a:pt x="9275" y="13058"/>
                </a:lnTo>
                <a:lnTo>
                  <a:pt x="9271" y="13055"/>
                </a:lnTo>
                <a:lnTo>
                  <a:pt x="9227" y="13022"/>
                </a:lnTo>
                <a:lnTo>
                  <a:pt x="8979" y="12839"/>
                </a:lnTo>
                <a:lnTo>
                  <a:pt x="8708" y="12611"/>
                </a:lnTo>
                <a:lnTo>
                  <a:pt x="8434" y="12477"/>
                </a:lnTo>
                <a:lnTo>
                  <a:pt x="8238" y="12381"/>
                </a:lnTo>
                <a:lnTo>
                  <a:pt x="8025" y="12338"/>
                </a:lnTo>
                <a:lnTo>
                  <a:pt x="7838" y="12254"/>
                </a:lnTo>
                <a:lnTo>
                  <a:pt x="7733" y="12207"/>
                </a:lnTo>
                <a:lnTo>
                  <a:pt x="7638" y="12120"/>
                </a:lnTo>
                <a:lnTo>
                  <a:pt x="7541" y="12080"/>
                </a:lnTo>
                <a:lnTo>
                  <a:pt x="7021" y="11866"/>
                </a:lnTo>
                <a:lnTo>
                  <a:pt x="6506" y="11628"/>
                </a:lnTo>
                <a:lnTo>
                  <a:pt x="6003" y="11410"/>
                </a:lnTo>
                <a:lnTo>
                  <a:pt x="5907" y="11368"/>
                </a:lnTo>
                <a:lnTo>
                  <a:pt x="5818" y="11349"/>
                </a:lnTo>
                <a:lnTo>
                  <a:pt x="5730" y="11311"/>
                </a:lnTo>
                <a:lnTo>
                  <a:pt x="5615" y="11261"/>
                </a:lnTo>
                <a:lnTo>
                  <a:pt x="5523" y="11196"/>
                </a:lnTo>
                <a:lnTo>
                  <a:pt x="5383" y="11162"/>
                </a:lnTo>
                <a:lnTo>
                  <a:pt x="5299" y="11141"/>
                </a:lnTo>
                <a:lnTo>
                  <a:pt x="5215" y="11135"/>
                </a:lnTo>
                <a:lnTo>
                  <a:pt x="5135" y="11112"/>
                </a:lnTo>
                <a:lnTo>
                  <a:pt x="5038" y="11084"/>
                </a:lnTo>
                <a:lnTo>
                  <a:pt x="4906" y="11058"/>
                </a:lnTo>
                <a:lnTo>
                  <a:pt x="4812" y="11038"/>
                </a:lnTo>
                <a:lnTo>
                  <a:pt x="4724" y="11019"/>
                </a:lnTo>
                <a:lnTo>
                  <a:pt x="4654" y="11003"/>
                </a:lnTo>
                <a:lnTo>
                  <a:pt x="4564" y="10988"/>
                </a:lnTo>
                <a:lnTo>
                  <a:pt x="4425" y="10966"/>
                </a:lnTo>
                <a:lnTo>
                  <a:pt x="4268" y="10948"/>
                </a:lnTo>
                <a:lnTo>
                  <a:pt x="4118" y="10939"/>
                </a:lnTo>
                <a:lnTo>
                  <a:pt x="3758" y="10917"/>
                </a:lnTo>
                <a:lnTo>
                  <a:pt x="3405" y="10948"/>
                </a:lnTo>
                <a:lnTo>
                  <a:pt x="3076" y="10964"/>
                </a:lnTo>
                <a:lnTo>
                  <a:pt x="2677" y="10984"/>
                </a:lnTo>
                <a:lnTo>
                  <a:pt x="2260" y="11006"/>
                </a:lnTo>
                <a:lnTo>
                  <a:pt x="1860" y="11013"/>
                </a:lnTo>
                <a:lnTo>
                  <a:pt x="1583" y="11018"/>
                </a:lnTo>
                <a:lnTo>
                  <a:pt x="1357" y="11030"/>
                </a:lnTo>
                <a:lnTo>
                  <a:pt x="1116" y="11063"/>
                </a:lnTo>
                <a:lnTo>
                  <a:pt x="993" y="11080"/>
                </a:lnTo>
                <a:lnTo>
                  <a:pt x="915" y="11076"/>
                </a:lnTo>
                <a:lnTo>
                  <a:pt x="819" y="11112"/>
                </a:lnTo>
                <a:lnTo>
                  <a:pt x="723" y="11148"/>
                </a:lnTo>
                <a:lnTo>
                  <a:pt x="623" y="11129"/>
                </a:lnTo>
                <a:lnTo>
                  <a:pt x="571" y="11187"/>
                </a:lnTo>
                <a:lnTo>
                  <a:pt x="561" y="11199"/>
                </a:lnTo>
                <a:lnTo>
                  <a:pt x="537" y="11244"/>
                </a:lnTo>
                <a:lnTo>
                  <a:pt x="521" y="11261"/>
                </a:lnTo>
                <a:lnTo>
                  <a:pt x="504" y="11279"/>
                </a:lnTo>
                <a:lnTo>
                  <a:pt x="511" y="11318"/>
                </a:lnTo>
                <a:lnTo>
                  <a:pt x="496" y="11336"/>
                </a:lnTo>
                <a:lnTo>
                  <a:pt x="460" y="11379"/>
                </a:lnTo>
                <a:lnTo>
                  <a:pt x="503" y="11459"/>
                </a:lnTo>
                <a:lnTo>
                  <a:pt x="471" y="11509"/>
                </a:lnTo>
                <a:lnTo>
                  <a:pt x="457" y="11530"/>
                </a:lnTo>
                <a:lnTo>
                  <a:pt x="458" y="11537"/>
                </a:lnTo>
                <a:lnTo>
                  <a:pt x="446" y="11559"/>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Ink 2"/>
          <p:cNvSpPr/>
          <p:nvPr/>
        </p:nvSpPr>
        <p:spPr>
          <a:xfrm>
            <a:off x="758880" y="5724360"/>
            <a:ext cx="2546280" cy="946440"/>
          </a:xfrm>
          <a:custGeom>
            <a:avLst/>
            <a:gdLst/>
            <a:ahLst/>
            <a:rect l="l" t="t" r="r" b="b"/>
            <a:pathLst>
              <a:path w="7071" h="2630">
                <a:moveTo>
                  <a:pt x="2803" y="15900"/>
                </a:moveTo>
                <a:cubicBezTo>
                  <a:pt x="2803" y="15925"/>
                  <a:pt x="2803" y="15949"/>
                  <a:pt x="2803" y="15974"/>
                </a:cubicBezTo>
                <a:cubicBezTo>
                  <a:pt x="2788" y="15998"/>
                  <a:pt x="2782" y="15997"/>
                  <a:pt x="2778" y="16049"/>
                </a:cubicBezTo>
                <a:cubicBezTo>
                  <a:pt x="2778" y="16057"/>
                  <a:pt x="2778" y="16065"/>
                  <a:pt x="2778" y="16073"/>
                </a:cubicBezTo>
                <a:cubicBezTo>
                  <a:pt x="2764" y="16090"/>
                  <a:pt x="2753" y="16117"/>
                  <a:pt x="2729" y="16148"/>
                </a:cubicBezTo>
                <a:cubicBezTo>
                  <a:pt x="2698" y="16187"/>
                  <a:pt x="2711" y="16177"/>
                  <a:pt x="2704" y="16222"/>
                </a:cubicBezTo>
                <a:cubicBezTo>
                  <a:pt x="2683" y="16238"/>
                  <a:pt x="2675" y="16231"/>
                  <a:pt x="2654" y="16247"/>
                </a:cubicBezTo>
                <a:cubicBezTo>
                  <a:pt x="2654" y="16280"/>
                  <a:pt x="2654" y="16313"/>
                  <a:pt x="2654" y="16346"/>
                </a:cubicBezTo>
                <a:cubicBezTo>
                  <a:pt x="2639" y="16370"/>
                  <a:pt x="2636" y="16370"/>
                  <a:pt x="2629" y="16421"/>
                </a:cubicBezTo>
                <a:cubicBezTo>
                  <a:pt x="2592" y="16453"/>
                  <a:pt x="2585" y="16433"/>
                  <a:pt x="2580" y="16495"/>
                </a:cubicBezTo>
                <a:cubicBezTo>
                  <a:pt x="2580" y="16503"/>
                  <a:pt x="2580" y="16512"/>
                  <a:pt x="2580" y="16520"/>
                </a:cubicBezTo>
                <a:cubicBezTo>
                  <a:pt x="2559" y="16541"/>
                  <a:pt x="2541" y="16548"/>
                  <a:pt x="2530" y="16594"/>
                </a:cubicBezTo>
                <a:cubicBezTo>
                  <a:pt x="2525" y="16616"/>
                  <a:pt x="2530" y="16647"/>
                  <a:pt x="2530" y="16669"/>
                </a:cubicBezTo>
                <a:cubicBezTo>
                  <a:pt x="2515" y="16693"/>
                  <a:pt x="2509" y="16691"/>
                  <a:pt x="2505" y="16743"/>
                </a:cubicBezTo>
                <a:cubicBezTo>
                  <a:pt x="2505" y="16751"/>
                  <a:pt x="2505" y="16760"/>
                  <a:pt x="2505" y="16768"/>
                </a:cubicBezTo>
                <a:cubicBezTo>
                  <a:pt x="2488" y="16785"/>
                  <a:pt x="2476" y="16815"/>
                  <a:pt x="2456" y="16842"/>
                </a:cubicBezTo>
                <a:cubicBezTo>
                  <a:pt x="2430" y="16876"/>
                  <a:pt x="2418" y="16902"/>
                  <a:pt x="2406" y="16942"/>
                </a:cubicBezTo>
                <a:cubicBezTo>
                  <a:pt x="2406" y="16950"/>
                  <a:pt x="2406" y="16958"/>
                  <a:pt x="2406" y="16966"/>
                </a:cubicBezTo>
                <a:cubicBezTo>
                  <a:pt x="2385" y="16981"/>
                  <a:pt x="2377" y="16976"/>
                  <a:pt x="2356" y="16991"/>
                </a:cubicBezTo>
                <a:cubicBezTo>
                  <a:pt x="2343" y="17027"/>
                  <a:pt x="2338" y="17050"/>
                  <a:pt x="2332" y="17090"/>
                </a:cubicBezTo>
                <a:cubicBezTo>
                  <a:pt x="2311" y="17105"/>
                  <a:pt x="2303" y="17100"/>
                  <a:pt x="2282" y="17115"/>
                </a:cubicBezTo>
                <a:cubicBezTo>
                  <a:pt x="2274" y="17166"/>
                  <a:pt x="2277" y="17139"/>
                  <a:pt x="2257" y="17165"/>
                </a:cubicBezTo>
                <a:cubicBezTo>
                  <a:pt x="2243" y="17202"/>
                  <a:pt x="2238" y="17223"/>
                  <a:pt x="2232" y="17264"/>
                </a:cubicBezTo>
                <a:cubicBezTo>
                  <a:pt x="2213" y="17284"/>
                  <a:pt x="2193" y="17293"/>
                  <a:pt x="2183" y="17338"/>
                </a:cubicBezTo>
                <a:cubicBezTo>
                  <a:pt x="2178" y="17360"/>
                  <a:pt x="2183" y="17391"/>
                  <a:pt x="2183" y="17413"/>
                </a:cubicBezTo>
                <a:cubicBezTo>
                  <a:pt x="2163" y="17439"/>
                  <a:pt x="2166" y="17412"/>
                  <a:pt x="2158" y="17462"/>
                </a:cubicBezTo>
                <a:cubicBezTo>
                  <a:pt x="2133" y="17462"/>
                  <a:pt x="2125" y="17462"/>
                  <a:pt x="2108" y="17462"/>
                </a:cubicBezTo>
              </a:path>
              <a:path w="7071" h="2630">
                <a:moveTo>
                  <a:pt x="2654" y="15900"/>
                </a:moveTo>
                <a:cubicBezTo>
                  <a:pt x="2797" y="15900"/>
                  <a:pt x="2998" y="15882"/>
                  <a:pt x="3101" y="15925"/>
                </a:cubicBezTo>
                <a:cubicBezTo>
                  <a:pt x="3154" y="15947"/>
                  <a:pt x="3171" y="15946"/>
                  <a:pt x="3225" y="15949"/>
                </a:cubicBezTo>
                <a:cubicBezTo>
                  <a:pt x="3288" y="15952"/>
                  <a:pt x="3371" y="15969"/>
                  <a:pt x="3398" y="15974"/>
                </a:cubicBezTo>
                <a:cubicBezTo>
                  <a:pt x="3435" y="15981"/>
                  <a:pt x="3466" y="15980"/>
                  <a:pt x="3497" y="15999"/>
                </a:cubicBezTo>
                <a:cubicBezTo>
                  <a:pt x="3528" y="16018"/>
                  <a:pt x="3526" y="16033"/>
                  <a:pt x="3547" y="16073"/>
                </a:cubicBezTo>
                <a:cubicBezTo>
                  <a:pt x="3572" y="16121"/>
                  <a:pt x="3578" y="16166"/>
                  <a:pt x="3597" y="16222"/>
                </a:cubicBezTo>
                <a:cubicBezTo>
                  <a:pt x="3614" y="16272"/>
                  <a:pt x="3621" y="16310"/>
                  <a:pt x="3621" y="16371"/>
                </a:cubicBezTo>
                <a:cubicBezTo>
                  <a:pt x="3621" y="16457"/>
                  <a:pt x="3640" y="16573"/>
                  <a:pt x="3597" y="16644"/>
                </a:cubicBezTo>
                <a:cubicBezTo>
                  <a:pt x="3578" y="16675"/>
                  <a:pt x="3578" y="16699"/>
                  <a:pt x="3547" y="16718"/>
                </a:cubicBezTo>
                <a:cubicBezTo>
                  <a:pt x="3517" y="16737"/>
                  <a:pt x="3450" y="16726"/>
                  <a:pt x="3423" y="16743"/>
                </a:cubicBezTo>
                <a:cubicBezTo>
                  <a:pt x="3348" y="16789"/>
                  <a:pt x="3352" y="16793"/>
                  <a:pt x="3249" y="16793"/>
                </a:cubicBezTo>
                <a:cubicBezTo>
                  <a:pt x="3026" y="16793"/>
                  <a:pt x="2803" y="16793"/>
                  <a:pt x="2580" y="16793"/>
                </a:cubicBezTo>
                <a:cubicBezTo>
                  <a:pt x="2580" y="16856"/>
                  <a:pt x="2568" y="16917"/>
                  <a:pt x="2604" y="16966"/>
                </a:cubicBezTo>
                <a:cubicBezTo>
                  <a:pt x="2644" y="17022"/>
                  <a:pt x="2747" y="17099"/>
                  <a:pt x="2803" y="17140"/>
                </a:cubicBezTo>
                <a:cubicBezTo>
                  <a:pt x="2873" y="17191"/>
                  <a:pt x="2864" y="17139"/>
                  <a:pt x="2877" y="17214"/>
                </a:cubicBezTo>
                <a:cubicBezTo>
                  <a:pt x="2890" y="17286"/>
                  <a:pt x="2873" y="17376"/>
                  <a:pt x="2853" y="17413"/>
                </a:cubicBezTo>
                <a:cubicBezTo>
                  <a:pt x="2828" y="17460"/>
                  <a:pt x="2832" y="17495"/>
                  <a:pt x="2778" y="17512"/>
                </a:cubicBezTo>
                <a:cubicBezTo>
                  <a:pt x="2732" y="17527"/>
                  <a:pt x="2719" y="17497"/>
                  <a:pt x="2679" y="17537"/>
                </a:cubicBezTo>
                <a:cubicBezTo>
                  <a:pt x="2635" y="17581"/>
                  <a:pt x="2667" y="17579"/>
                  <a:pt x="2604" y="17587"/>
                </a:cubicBezTo>
                <a:cubicBezTo>
                  <a:pt x="2499" y="17599"/>
                  <a:pt x="2270" y="17608"/>
                  <a:pt x="2208" y="17562"/>
                </a:cubicBezTo>
                <a:cubicBezTo>
                  <a:pt x="2174" y="17537"/>
                  <a:pt x="2183" y="17525"/>
                  <a:pt x="2183" y="17462"/>
                </a:cubicBezTo>
              </a:path>
              <a:path w="7071" h="2630">
                <a:moveTo>
                  <a:pt x="3845" y="17041"/>
                </a:moveTo>
                <a:cubicBezTo>
                  <a:pt x="3808" y="17067"/>
                  <a:pt x="3803" y="17077"/>
                  <a:pt x="3770" y="17115"/>
                </a:cubicBezTo>
                <a:cubicBezTo>
                  <a:pt x="3752" y="17135"/>
                  <a:pt x="3743" y="17156"/>
                  <a:pt x="3721" y="17190"/>
                </a:cubicBezTo>
                <a:cubicBezTo>
                  <a:pt x="3701" y="17221"/>
                  <a:pt x="3699" y="17258"/>
                  <a:pt x="3671" y="17289"/>
                </a:cubicBezTo>
                <a:cubicBezTo>
                  <a:pt x="3627" y="17338"/>
                  <a:pt x="3643" y="17363"/>
                  <a:pt x="3621" y="17413"/>
                </a:cubicBezTo>
                <a:cubicBezTo>
                  <a:pt x="3607" y="17445"/>
                  <a:pt x="3556" y="17480"/>
                  <a:pt x="3547" y="17512"/>
                </a:cubicBezTo>
                <a:cubicBezTo>
                  <a:pt x="3534" y="17558"/>
                  <a:pt x="3547" y="17574"/>
                  <a:pt x="3547" y="17512"/>
                </a:cubicBezTo>
                <a:cubicBezTo>
                  <a:pt x="3547" y="17460"/>
                  <a:pt x="3555" y="17461"/>
                  <a:pt x="3572" y="17413"/>
                </a:cubicBezTo>
                <a:cubicBezTo>
                  <a:pt x="3593" y="17353"/>
                  <a:pt x="3639" y="17338"/>
                  <a:pt x="3671" y="17289"/>
                </a:cubicBezTo>
                <a:cubicBezTo>
                  <a:pt x="3703" y="17240"/>
                  <a:pt x="3728" y="17207"/>
                  <a:pt x="3770" y="17165"/>
                </a:cubicBezTo>
                <a:cubicBezTo>
                  <a:pt x="3788" y="17146"/>
                  <a:pt x="3789" y="17116"/>
                  <a:pt x="3820" y="17090"/>
                </a:cubicBezTo>
                <a:cubicBezTo>
                  <a:pt x="3841" y="17073"/>
                  <a:pt x="3911" y="17026"/>
                  <a:pt x="3944" y="17016"/>
                </a:cubicBezTo>
                <a:cubicBezTo>
                  <a:pt x="3990" y="17002"/>
                  <a:pt x="4043" y="16994"/>
                  <a:pt x="4093" y="16991"/>
                </a:cubicBezTo>
                <a:cubicBezTo>
                  <a:pt x="4146" y="16988"/>
                  <a:pt x="4163" y="16969"/>
                  <a:pt x="4217" y="16966"/>
                </a:cubicBezTo>
                <a:cubicBezTo>
                  <a:pt x="4356" y="16958"/>
                  <a:pt x="4498" y="16966"/>
                  <a:pt x="4638" y="16966"/>
                </a:cubicBezTo>
              </a:path>
              <a:path w="7071" h="2630">
                <a:moveTo>
                  <a:pt x="5358" y="17165"/>
                </a:moveTo>
                <a:cubicBezTo>
                  <a:pt x="5358" y="17210"/>
                  <a:pt x="5338" y="17223"/>
                  <a:pt x="5333" y="17264"/>
                </a:cubicBezTo>
                <a:cubicBezTo>
                  <a:pt x="5328" y="17309"/>
                  <a:pt x="5295" y="17347"/>
                  <a:pt x="5283" y="17388"/>
                </a:cubicBezTo>
                <a:cubicBezTo>
                  <a:pt x="5272" y="17425"/>
                  <a:pt x="5241" y="17479"/>
                  <a:pt x="5234" y="17512"/>
                </a:cubicBezTo>
                <a:cubicBezTo>
                  <a:pt x="5234" y="17529"/>
                  <a:pt x="5234" y="17545"/>
                  <a:pt x="5234" y="17562"/>
                </a:cubicBezTo>
                <a:cubicBezTo>
                  <a:pt x="5192" y="17576"/>
                  <a:pt x="5209" y="17610"/>
                  <a:pt x="5209" y="17661"/>
                </a:cubicBezTo>
                <a:cubicBezTo>
                  <a:pt x="5209" y="17701"/>
                  <a:pt x="5184" y="17715"/>
                  <a:pt x="5184" y="17760"/>
                </a:cubicBezTo>
                <a:cubicBezTo>
                  <a:pt x="5184" y="17768"/>
                  <a:pt x="5184" y="17777"/>
                  <a:pt x="5184" y="17785"/>
                </a:cubicBezTo>
                <a:cubicBezTo>
                  <a:pt x="5146" y="17798"/>
                  <a:pt x="5159" y="17814"/>
                  <a:pt x="5159" y="17859"/>
                </a:cubicBezTo>
                <a:cubicBezTo>
                  <a:pt x="5159" y="17884"/>
                  <a:pt x="5159" y="17892"/>
                  <a:pt x="5159" y="17909"/>
                </a:cubicBezTo>
                <a:cubicBezTo>
                  <a:pt x="5125" y="17921"/>
                  <a:pt x="5135" y="17917"/>
                  <a:pt x="5135" y="17959"/>
                </a:cubicBezTo>
                <a:cubicBezTo>
                  <a:pt x="5081" y="17959"/>
                  <a:pt x="5098" y="17947"/>
                  <a:pt x="5060" y="17934"/>
                </a:cubicBezTo>
              </a:path>
              <a:path w="7071" h="2630">
                <a:moveTo>
                  <a:pt x="5432" y="16669"/>
                </a:moveTo>
                <a:lnTo>
                  <a:pt x="5432" y="16669"/>
                </a:lnTo>
              </a:path>
              <a:path w="7071" h="2630">
                <a:moveTo>
                  <a:pt x="6003" y="16396"/>
                </a:moveTo>
                <a:cubicBezTo>
                  <a:pt x="6003" y="16467"/>
                  <a:pt x="6020" y="16526"/>
                  <a:pt x="6028" y="16594"/>
                </a:cubicBezTo>
                <a:cubicBezTo>
                  <a:pt x="6042" y="16716"/>
                  <a:pt x="6040" y="16844"/>
                  <a:pt x="6052" y="16966"/>
                </a:cubicBezTo>
                <a:cubicBezTo>
                  <a:pt x="6062" y="17068"/>
                  <a:pt x="6077" y="17160"/>
                  <a:pt x="6077" y="17264"/>
                </a:cubicBezTo>
                <a:cubicBezTo>
                  <a:pt x="6077" y="17482"/>
                  <a:pt x="6154" y="18012"/>
                  <a:pt x="6052" y="18182"/>
                </a:cubicBezTo>
              </a:path>
              <a:path w="7071" h="2630">
                <a:moveTo>
                  <a:pt x="5730" y="17214"/>
                </a:moveTo>
                <a:cubicBezTo>
                  <a:pt x="5864" y="17214"/>
                  <a:pt x="5956" y="17201"/>
                  <a:pt x="6077" y="17165"/>
                </a:cubicBezTo>
                <a:cubicBezTo>
                  <a:pt x="6139" y="17147"/>
                  <a:pt x="6235" y="17145"/>
                  <a:pt x="6300" y="17140"/>
                </a:cubicBezTo>
                <a:cubicBezTo>
                  <a:pt x="6355" y="17136"/>
                  <a:pt x="6390" y="17115"/>
                  <a:pt x="6449" y="17115"/>
                </a:cubicBezTo>
                <a:cubicBezTo>
                  <a:pt x="6507" y="17115"/>
                  <a:pt x="6565" y="17115"/>
                  <a:pt x="6623" y="17115"/>
                </a:cubicBezTo>
              </a:path>
              <a:path w="7071" h="2630">
                <a:moveTo>
                  <a:pt x="6995" y="17239"/>
                </a:moveTo>
                <a:cubicBezTo>
                  <a:pt x="6995" y="17313"/>
                  <a:pt x="7012" y="17363"/>
                  <a:pt x="7020" y="17438"/>
                </a:cubicBezTo>
                <a:cubicBezTo>
                  <a:pt x="7038" y="17607"/>
                  <a:pt x="7020" y="17789"/>
                  <a:pt x="7020" y="17959"/>
                </a:cubicBezTo>
              </a:path>
              <a:path w="7071" h="2630">
                <a:moveTo>
                  <a:pt x="6995" y="16669"/>
                </a:moveTo>
                <a:lnTo>
                  <a:pt x="6995" y="16669"/>
                </a:lnTo>
              </a:path>
              <a:path w="7071" h="2630">
                <a:moveTo>
                  <a:pt x="7863" y="16917"/>
                </a:moveTo>
                <a:cubicBezTo>
                  <a:pt x="7806" y="16917"/>
                  <a:pt x="7785" y="16918"/>
                  <a:pt x="7739" y="16942"/>
                </a:cubicBezTo>
                <a:cubicBezTo>
                  <a:pt x="7713" y="16955"/>
                  <a:pt x="7651" y="16976"/>
                  <a:pt x="7640" y="17016"/>
                </a:cubicBezTo>
                <a:cubicBezTo>
                  <a:pt x="7628" y="17059"/>
                  <a:pt x="7621" y="17058"/>
                  <a:pt x="7615" y="17090"/>
                </a:cubicBezTo>
                <a:cubicBezTo>
                  <a:pt x="7607" y="17129"/>
                  <a:pt x="7596" y="17154"/>
                  <a:pt x="7590" y="17190"/>
                </a:cubicBezTo>
                <a:cubicBezTo>
                  <a:pt x="7575" y="17281"/>
                  <a:pt x="7583" y="17374"/>
                  <a:pt x="7640" y="17438"/>
                </a:cubicBezTo>
                <a:cubicBezTo>
                  <a:pt x="7715" y="17522"/>
                  <a:pt x="7807" y="17584"/>
                  <a:pt x="7888" y="17661"/>
                </a:cubicBezTo>
                <a:cubicBezTo>
                  <a:pt x="7932" y="17703"/>
                  <a:pt x="8021" y="17775"/>
                  <a:pt x="8037" y="17835"/>
                </a:cubicBezTo>
                <a:cubicBezTo>
                  <a:pt x="8056" y="17906"/>
                  <a:pt x="8069" y="17869"/>
                  <a:pt x="8111" y="17934"/>
                </a:cubicBezTo>
                <a:cubicBezTo>
                  <a:pt x="8142" y="17982"/>
                  <a:pt x="8133" y="18007"/>
                  <a:pt x="8136" y="18058"/>
                </a:cubicBezTo>
                <a:cubicBezTo>
                  <a:pt x="8142" y="18170"/>
                  <a:pt x="8128" y="18276"/>
                  <a:pt x="8111" y="18380"/>
                </a:cubicBezTo>
                <a:cubicBezTo>
                  <a:pt x="8104" y="18421"/>
                  <a:pt x="8091" y="18484"/>
                  <a:pt x="8062" y="18504"/>
                </a:cubicBezTo>
                <a:cubicBezTo>
                  <a:pt x="8048" y="18514"/>
                  <a:pt x="7979" y="18526"/>
                  <a:pt x="7962" y="18529"/>
                </a:cubicBezTo>
                <a:cubicBezTo>
                  <a:pt x="7902" y="18539"/>
                  <a:pt x="7835" y="18508"/>
                  <a:pt x="7813" y="18504"/>
                </a:cubicBezTo>
                <a:cubicBezTo>
                  <a:pt x="7789" y="18499"/>
                  <a:pt x="7763" y="18507"/>
                  <a:pt x="7739" y="18504"/>
                </a:cubicBezTo>
              </a:path>
              <a:path w="7071" h="2630">
                <a:moveTo>
                  <a:pt x="8334" y="16892"/>
                </a:moveTo>
                <a:cubicBezTo>
                  <a:pt x="8350" y="16949"/>
                  <a:pt x="8351" y="17038"/>
                  <a:pt x="8384" y="17090"/>
                </a:cubicBezTo>
                <a:cubicBezTo>
                  <a:pt x="8437" y="17175"/>
                  <a:pt x="8482" y="17267"/>
                  <a:pt x="8508" y="17363"/>
                </a:cubicBezTo>
                <a:cubicBezTo>
                  <a:pt x="8521" y="17410"/>
                  <a:pt x="8526" y="17469"/>
                  <a:pt x="8533" y="17512"/>
                </a:cubicBezTo>
                <a:cubicBezTo>
                  <a:pt x="8583" y="17814"/>
                  <a:pt x="8533" y="18686"/>
                  <a:pt x="8533" y="18380"/>
                </a:cubicBezTo>
                <a:cubicBezTo>
                  <a:pt x="8533" y="18153"/>
                  <a:pt x="8466" y="17798"/>
                  <a:pt x="8558" y="17587"/>
                </a:cubicBezTo>
                <a:cubicBezTo>
                  <a:pt x="8587" y="17522"/>
                  <a:pt x="8628" y="17509"/>
                  <a:pt x="8632" y="17438"/>
                </a:cubicBezTo>
                <a:cubicBezTo>
                  <a:pt x="8637" y="17350"/>
                  <a:pt x="8661" y="17390"/>
                  <a:pt x="8706" y="17338"/>
                </a:cubicBezTo>
                <a:cubicBezTo>
                  <a:pt x="8734" y="17306"/>
                  <a:pt x="8738" y="17283"/>
                  <a:pt x="8756" y="17264"/>
                </a:cubicBezTo>
                <a:cubicBezTo>
                  <a:pt x="8790" y="17226"/>
                  <a:pt x="8831" y="17239"/>
                  <a:pt x="8880" y="17239"/>
                </a:cubicBezTo>
                <a:cubicBezTo>
                  <a:pt x="8938" y="17239"/>
                  <a:pt x="8996" y="17239"/>
                  <a:pt x="9054" y="17239"/>
                </a:cubicBezTo>
                <a:cubicBezTo>
                  <a:pt x="9060" y="17283"/>
                  <a:pt x="9069" y="17302"/>
                  <a:pt x="9079" y="17338"/>
                </a:cubicBezTo>
                <a:cubicBezTo>
                  <a:pt x="9099" y="17410"/>
                  <a:pt x="9107" y="17495"/>
                  <a:pt x="9128" y="17562"/>
                </a:cubicBezTo>
                <a:cubicBezTo>
                  <a:pt x="9146" y="17619"/>
                  <a:pt x="9175" y="17650"/>
                  <a:pt x="9178" y="17711"/>
                </a:cubicBezTo>
                <a:cubicBezTo>
                  <a:pt x="9189" y="17900"/>
                  <a:pt x="9178" y="18092"/>
                  <a:pt x="9178" y="182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Ink 3"/>
          <p:cNvSpPr/>
          <p:nvPr/>
        </p:nvSpPr>
        <p:spPr>
          <a:xfrm>
            <a:off x="4732200" y="2251080"/>
            <a:ext cx="2617920" cy="1017720"/>
          </a:xfrm>
          <a:custGeom>
            <a:avLst/>
            <a:gdLst/>
            <a:ahLst/>
            <a:rect l="l" t="t" r="r" b="b"/>
            <a:pathLst>
              <a:path w="7269" h="2829">
                <a:moveTo>
                  <a:pt x="13519" y="6325"/>
                </a:moveTo>
                <a:cubicBezTo>
                  <a:pt x="13478" y="6376"/>
                  <a:pt x="13443" y="6437"/>
                  <a:pt x="13419" y="6499"/>
                </a:cubicBezTo>
                <a:cubicBezTo>
                  <a:pt x="13387" y="6582"/>
                  <a:pt x="13351" y="6664"/>
                  <a:pt x="13320" y="6747"/>
                </a:cubicBezTo>
                <a:cubicBezTo>
                  <a:pt x="13287" y="6835"/>
                  <a:pt x="13225" y="6927"/>
                  <a:pt x="13221" y="7020"/>
                </a:cubicBezTo>
                <a:cubicBezTo>
                  <a:pt x="13218" y="7085"/>
                  <a:pt x="13206" y="7133"/>
                  <a:pt x="13196" y="7193"/>
                </a:cubicBezTo>
                <a:cubicBezTo>
                  <a:pt x="13185" y="7258"/>
                  <a:pt x="13179" y="7252"/>
                  <a:pt x="13171" y="7293"/>
                </a:cubicBezTo>
                <a:cubicBezTo>
                  <a:pt x="13162" y="7342"/>
                  <a:pt x="13154" y="7400"/>
                  <a:pt x="13146" y="7441"/>
                </a:cubicBezTo>
                <a:cubicBezTo>
                  <a:pt x="13141" y="7466"/>
                  <a:pt x="13157" y="7444"/>
                  <a:pt x="13146" y="7466"/>
                </a:cubicBezTo>
                <a:cubicBezTo>
                  <a:pt x="13146" y="7369"/>
                  <a:pt x="13156" y="7283"/>
                  <a:pt x="13171" y="7193"/>
                </a:cubicBezTo>
                <a:cubicBezTo>
                  <a:pt x="13191" y="7074"/>
                  <a:pt x="13181" y="6937"/>
                  <a:pt x="13196" y="6821"/>
                </a:cubicBezTo>
                <a:cubicBezTo>
                  <a:pt x="13203" y="6768"/>
                  <a:pt x="13214" y="6723"/>
                  <a:pt x="13221" y="6672"/>
                </a:cubicBezTo>
                <a:cubicBezTo>
                  <a:pt x="13230" y="6612"/>
                  <a:pt x="13208" y="6595"/>
                  <a:pt x="13246" y="6548"/>
                </a:cubicBezTo>
                <a:cubicBezTo>
                  <a:pt x="13282" y="6504"/>
                  <a:pt x="13274" y="6469"/>
                  <a:pt x="13320" y="6424"/>
                </a:cubicBezTo>
                <a:cubicBezTo>
                  <a:pt x="13335" y="6409"/>
                  <a:pt x="13372" y="6392"/>
                  <a:pt x="13395" y="6375"/>
                </a:cubicBezTo>
                <a:cubicBezTo>
                  <a:pt x="13425" y="6352"/>
                  <a:pt x="13454" y="6314"/>
                  <a:pt x="13469" y="6300"/>
                </a:cubicBezTo>
                <a:cubicBezTo>
                  <a:pt x="13495" y="6275"/>
                  <a:pt x="13503" y="6267"/>
                  <a:pt x="13519" y="6251"/>
                </a:cubicBezTo>
                <a:cubicBezTo>
                  <a:pt x="13519" y="6304"/>
                  <a:pt x="13509" y="6354"/>
                  <a:pt x="13543" y="6400"/>
                </a:cubicBezTo>
                <a:cubicBezTo>
                  <a:pt x="13602" y="6482"/>
                  <a:pt x="13687" y="6535"/>
                  <a:pt x="13742" y="6623"/>
                </a:cubicBezTo>
                <a:cubicBezTo>
                  <a:pt x="13774" y="6675"/>
                  <a:pt x="13809" y="6722"/>
                  <a:pt x="13841" y="6772"/>
                </a:cubicBezTo>
                <a:cubicBezTo>
                  <a:pt x="13873" y="6822"/>
                  <a:pt x="13910" y="6871"/>
                  <a:pt x="13940" y="6921"/>
                </a:cubicBezTo>
                <a:cubicBezTo>
                  <a:pt x="13977" y="6983"/>
                  <a:pt x="14020" y="7031"/>
                  <a:pt x="14064" y="7094"/>
                </a:cubicBezTo>
                <a:cubicBezTo>
                  <a:pt x="14078" y="7114"/>
                  <a:pt x="14103" y="7125"/>
                  <a:pt x="14114" y="7169"/>
                </a:cubicBezTo>
                <a:cubicBezTo>
                  <a:pt x="14119" y="7190"/>
                  <a:pt x="14114" y="7221"/>
                  <a:pt x="14114" y="7243"/>
                </a:cubicBezTo>
              </a:path>
              <a:path w="7269" h="2829">
                <a:moveTo>
                  <a:pt x="13494" y="6921"/>
                </a:moveTo>
                <a:cubicBezTo>
                  <a:pt x="13701" y="6921"/>
                  <a:pt x="13907" y="6921"/>
                  <a:pt x="14114" y="6921"/>
                </a:cubicBezTo>
              </a:path>
              <a:path w="7269" h="2829">
                <a:moveTo>
                  <a:pt x="14759" y="6871"/>
                </a:moveTo>
                <a:cubicBezTo>
                  <a:pt x="14719" y="6884"/>
                  <a:pt x="14734" y="6919"/>
                  <a:pt x="14734" y="6970"/>
                </a:cubicBezTo>
                <a:cubicBezTo>
                  <a:pt x="14734" y="7053"/>
                  <a:pt x="14734" y="7135"/>
                  <a:pt x="14734" y="7218"/>
                </a:cubicBezTo>
                <a:cubicBezTo>
                  <a:pt x="14792" y="7199"/>
                  <a:pt x="14725" y="7171"/>
                  <a:pt x="14759" y="7144"/>
                </a:cubicBezTo>
                <a:cubicBezTo>
                  <a:pt x="14794" y="7116"/>
                  <a:pt x="14771" y="7100"/>
                  <a:pt x="14808" y="7045"/>
                </a:cubicBezTo>
                <a:cubicBezTo>
                  <a:pt x="14835" y="7005"/>
                  <a:pt x="14831" y="6990"/>
                  <a:pt x="14858" y="6970"/>
                </a:cubicBezTo>
                <a:cubicBezTo>
                  <a:pt x="14873" y="6959"/>
                  <a:pt x="14954" y="6900"/>
                  <a:pt x="14957" y="6896"/>
                </a:cubicBezTo>
                <a:cubicBezTo>
                  <a:pt x="14973" y="6871"/>
                  <a:pt x="14970" y="6851"/>
                  <a:pt x="15007" y="6846"/>
                </a:cubicBezTo>
                <a:cubicBezTo>
                  <a:pt x="15055" y="6840"/>
                  <a:pt x="15091" y="6838"/>
                  <a:pt x="15106" y="6871"/>
                </a:cubicBezTo>
                <a:cubicBezTo>
                  <a:pt x="15132" y="6928"/>
                  <a:pt x="15131" y="6957"/>
                  <a:pt x="15131" y="7020"/>
                </a:cubicBezTo>
                <a:cubicBezTo>
                  <a:pt x="15131" y="7086"/>
                  <a:pt x="15131" y="7152"/>
                  <a:pt x="15131" y="7218"/>
                </a:cubicBezTo>
                <a:cubicBezTo>
                  <a:pt x="15158" y="7182"/>
                  <a:pt x="15170" y="7154"/>
                  <a:pt x="15205" y="7119"/>
                </a:cubicBezTo>
                <a:cubicBezTo>
                  <a:pt x="15237" y="7087"/>
                  <a:pt x="15258" y="7062"/>
                  <a:pt x="15280" y="7045"/>
                </a:cubicBezTo>
                <a:cubicBezTo>
                  <a:pt x="15328" y="7008"/>
                  <a:pt x="15278" y="6953"/>
                  <a:pt x="15354" y="6945"/>
                </a:cubicBezTo>
                <a:cubicBezTo>
                  <a:pt x="15422" y="6937"/>
                  <a:pt x="15380" y="6901"/>
                  <a:pt x="15453" y="6896"/>
                </a:cubicBezTo>
                <a:cubicBezTo>
                  <a:pt x="15527" y="6891"/>
                  <a:pt x="15603" y="6896"/>
                  <a:pt x="15677" y="6896"/>
                </a:cubicBezTo>
                <a:cubicBezTo>
                  <a:pt x="15677" y="6985"/>
                  <a:pt x="15685" y="7068"/>
                  <a:pt x="15701" y="7144"/>
                </a:cubicBezTo>
                <a:cubicBezTo>
                  <a:pt x="15713" y="7203"/>
                  <a:pt x="15701" y="7281"/>
                  <a:pt x="15701" y="7342"/>
                </a:cubicBezTo>
              </a:path>
              <a:path w="7269" h="2829">
                <a:moveTo>
                  <a:pt x="15974" y="7169"/>
                </a:moveTo>
                <a:cubicBezTo>
                  <a:pt x="16046" y="7169"/>
                  <a:pt x="16143" y="7188"/>
                  <a:pt x="16197" y="7144"/>
                </a:cubicBezTo>
                <a:cubicBezTo>
                  <a:pt x="16240" y="7110"/>
                  <a:pt x="16247" y="7127"/>
                  <a:pt x="16247" y="7069"/>
                </a:cubicBezTo>
                <a:cubicBezTo>
                  <a:pt x="16247" y="7045"/>
                  <a:pt x="16247" y="7036"/>
                  <a:pt x="16247" y="7020"/>
                </a:cubicBezTo>
                <a:cubicBezTo>
                  <a:pt x="16221" y="7020"/>
                  <a:pt x="16160" y="7013"/>
                  <a:pt x="16148" y="6995"/>
                </a:cubicBezTo>
                <a:cubicBezTo>
                  <a:pt x="16127" y="6963"/>
                  <a:pt x="16124" y="6970"/>
                  <a:pt x="16073" y="6970"/>
                </a:cubicBezTo>
                <a:cubicBezTo>
                  <a:pt x="16008" y="6970"/>
                  <a:pt x="15929" y="6956"/>
                  <a:pt x="15900" y="6995"/>
                </a:cubicBezTo>
                <a:cubicBezTo>
                  <a:pt x="15849" y="7063"/>
                  <a:pt x="15783" y="7081"/>
                  <a:pt x="15776" y="7169"/>
                </a:cubicBezTo>
                <a:cubicBezTo>
                  <a:pt x="15773" y="7203"/>
                  <a:pt x="15763" y="7260"/>
                  <a:pt x="15751" y="7293"/>
                </a:cubicBezTo>
                <a:cubicBezTo>
                  <a:pt x="15732" y="7346"/>
                  <a:pt x="15726" y="7362"/>
                  <a:pt x="15726" y="7417"/>
                </a:cubicBezTo>
                <a:cubicBezTo>
                  <a:pt x="15726" y="7463"/>
                  <a:pt x="15720" y="7481"/>
                  <a:pt x="15751" y="7516"/>
                </a:cubicBezTo>
                <a:cubicBezTo>
                  <a:pt x="15768" y="7535"/>
                  <a:pt x="15821" y="7588"/>
                  <a:pt x="15825" y="7590"/>
                </a:cubicBezTo>
                <a:cubicBezTo>
                  <a:pt x="15966" y="7661"/>
                  <a:pt x="16312" y="7590"/>
                  <a:pt x="16470" y="7590"/>
                </a:cubicBezTo>
              </a:path>
              <a:path w="7269" h="2829">
                <a:moveTo>
                  <a:pt x="16594" y="7144"/>
                </a:moveTo>
                <a:cubicBezTo>
                  <a:pt x="16594" y="7309"/>
                  <a:pt x="16594" y="7755"/>
                  <a:pt x="16594" y="7590"/>
                </a:cubicBezTo>
                <a:cubicBezTo>
                  <a:pt x="16594" y="7501"/>
                  <a:pt x="16559" y="7237"/>
                  <a:pt x="16619" y="7193"/>
                </a:cubicBezTo>
                <a:cubicBezTo>
                  <a:pt x="16652" y="7169"/>
                  <a:pt x="16664" y="7148"/>
                  <a:pt x="16694" y="7144"/>
                </a:cubicBezTo>
                <a:cubicBezTo>
                  <a:pt x="16781" y="7133"/>
                  <a:pt x="16878" y="7144"/>
                  <a:pt x="16966" y="7144"/>
                </a:cubicBezTo>
              </a:path>
              <a:path w="7269" h="2829">
                <a:moveTo>
                  <a:pt x="17214" y="7218"/>
                </a:moveTo>
                <a:cubicBezTo>
                  <a:pt x="17214" y="7374"/>
                  <a:pt x="17231" y="7549"/>
                  <a:pt x="17190" y="7689"/>
                </a:cubicBezTo>
                <a:cubicBezTo>
                  <a:pt x="17177" y="7735"/>
                  <a:pt x="17212" y="7748"/>
                  <a:pt x="17165" y="7764"/>
                </a:cubicBezTo>
              </a:path>
              <a:path w="7269" h="2829">
                <a:moveTo>
                  <a:pt x="17289" y="6995"/>
                </a:moveTo>
                <a:lnTo>
                  <a:pt x="17289" y="6995"/>
                </a:lnTo>
              </a:path>
              <a:path w="7269" h="2829">
                <a:moveTo>
                  <a:pt x="17636" y="7342"/>
                </a:moveTo>
                <a:cubicBezTo>
                  <a:pt x="17602" y="7342"/>
                  <a:pt x="17556" y="7329"/>
                  <a:pt x="17537" y="7367"/>
                </a:cubicBezTo>
                <a:cubicBezTo>
                  <a:pt x="17524" y="7393"/>
                  <a:pt x="17496" y="7438"/>
                  <a:pt x="17487" y="7466"/>
                </a:cubicBezTo>
                <a:cubicBezTo>
                  <a:pt x="17468" y="7522"/>
                  <a:pt x="17477" y="7605"/>
                  <a:pt x="17462" y="7665"/>
                </a:cubicBezTo>
                <a:cubicBezTo>
                  <a:pt x="17439" y="7754"/>
                  <a:pt x="17462" y="7888"/>
                  <a:pt x="17487" y="7962"/>
                </a:cubicBezTo>
                <a:cubicBezTo>
                  <a:pt x="17487" y="7970"/>
                  <a:pt x="17487" y="7979"/>
                  <a:pt x="17487" y="7987"/>
                </a:cubicBezTo>
                <a:cubicBezTo>
                  <a:pt x="17531" y="7998"/>
                  <a:pt x="17553" y="8028"/>
                  <a:pt x="17587" y="8062"/>
                </a:cubicBezTo>
                <a:cubicBezTo>
                  <a:pt x="17619" y="8094"/>
                  <a:pt x="17643" y="8086"/>
                  <a:pt x="17686" y="8086"/>
                </a:cubicBezTo>
                <a:cubicBezTo>
                  <a:pt x="17810" y="8086"/>
                  <a:pt x="17934" y="8086"/>
                  <a:pt x="18058" y="8086"/>
                </a:cubicBezTo>
              </a:path>
              <a:path w="7269" h="2829">
                <a:moveTo>
                  <a:pt x="18157" y="7491"/>
                </a:moveTo>
                <a:cubicBezTo>
                  <a:pt x="18113" y="7491"/>
                  <a:pt x="18098" y="7496"/>
                  <a:pt x="18083" y="7541"/>
                </a:cubicBezTo>
                <a:cubicBezTo>
                  <a:pt x="18047" y="7651"/>
                  <a:pt x="18076" y="7889"/>
                  <a:pt x="18107" y="7987"/>
                </a:cubicBezTo>
                <a:cubicBezTo>
                  <a:pt x="18120" y="8028"/>
                  <a:pt x="18157" y="8012"/>
                  <a:pt x="18207" y="8012"/>
                </a:cubicBezTo>
                <a:cubicBezTo>
                  <a:pt x="18286" y="8012"/>
                  <a:pt x="18442" y="8036"/>
                  <a:pt x="18479" y="7987"/>
                </a:cubicBezTo>
                <a:cubicBezTo>
                  <a:pt x="18508" y="7949"/>
                  <a:pt x="18549" y="7937"/>
                  <a:pt x="18554" y="7888"/>
                </a:cubicBezTo>
                <a:cubicBezTo>
                  <a:pt x="18556" y="7873"/>
                  <a:pt x="18567" y="7834"/>
                  <a:pt x="18579" y="7813"/>
                </a:cubicBezTo>
                <a:cubicBezTo>
                  <a:pt x="18602" y="7772"/>
                  <a:pt x="18604" y="7765"/>
                  <a:pt x="18604" y="7714"/>
                </a:cubicBezTo>
                <a:cubicBezTo>
                  <a:pt x="18604" y="7659"/>
                  <a:pt x="18613" y="7635"/>
                  <a:pt x="18628" y="7590"/>
                </a:cubicBezTo>
                <a:cubicBezTo>
                  <a:pt x="18642" y="7547"/>
                  <a:pt x="18628" y="7528"/>
                  <a:pt x="18628" y="7590"/>
                </a:cubicBezTo>
                <a:cubicBezTo>
                  <a:pt x="18628" y="7772"/>
                  <a:pt x="18628" y="7954"/>
                  <a:pt x="18628" y="8136"/>
                </a:cubicBezTo>
              </a:path>
              <a:path w="7269" h="2829">
                <a:moveTo>
                  <a:pt x="18901" y="7764"/>
                </a:moveTo>
                <a:cubicBezTo>
                  <a:pt x="18901" y="7913"/>
                  <a:pt x="18901" y="8061"/>
                  <a:pt x="18901" y="8210"/>
                </a:cubicBezTo>
                <a:cubicBezTo>
                  <a:pt x="18901" y="8134"/>
                  <a:pt x="18856" y="7799"/>
                  <a:pt x="18926" y="7764"/>
                </a:cubicBezTo>
                <a:cubicBezTo>
                  <a:pt x="18953" y="7751"/>
                  <a:pt x="18961" y="7727"/>
                  <a:pt x="19000" y="7714"/>
                </a:cubicBezTo>
                <a:cubicBezTo>
                  <a:pt x="19073" y="7689"/>
                  <a:pt x="19212" y="7723"/>
                  <a:pt x="19248" y="7739"/>
                </a:cubicBezTo>
                <a:cubicBezTo>
                  <a:pt x="19286" y="7755"/>
                  <a:pt x="19323" y="7734"/>
                  <a:pt x="19348" y="7789"/>
                </a:cubicBezTo>
                <a:cubicBezTo>
                  <a:pt x="19361" y="7817"/>
                  <a:pt x="19366" y="7911"/>
                  <a:pt x="19372" y="7938"/>
                </a:cubicBezTo>
                <a:cubicBezTo>
                  <a:pt x="19402" y="8082"/>
                  <a:pt x="19372" y="8261"/>
                  <a:pt x="19372" y="8409"/>
                </a:cubicBezTo>
              </a:path>
              <a:path w="7269" h="2829">
                <a:moveTo>
                  <a:pt x="20414" y="7764"/>
                </a:moveTo>
                <a:cubicBezTo>
                  <a:pt x="20395" y="7744"/>
                  <a:pt x="20372" y="7720"/>
                  <a:pt x="20340" y="7714"/>
                </a:cubicBezTo>
                <a:cubicBezTo>
                  <a:pt x="20299" y="7706"/>
                  <a:pt x="20282" y="7696"/>
                  <a:pt x="20241" y="7689"/>
                </a:cubicBezTo>
                <a:cubicBezTo>
                  <a:pt x="20187" y="7680"/>
                  <a:pt x="20111" y="7671"/>
                  <a:pt x="20067" y="7665"/>
                </a:cubicBezTo>
                <a:cubicBezTo>
                  <a:pt x="19964" y="7651"/>
                  <a:pt x="19528" y="7608"/>
                  <a:pt x="19472" y="7689"/>
                </a:cubicBezTo>
                <a:cubicBezTo>
                  <a:pt x="19456" y="7713"/>
                  <a:pt x="19454" y="7785"/>
                  <a:pt x="19447" y="7813"/>
                </a:cubicBezTo>
                <a:cubicBezTo>
                  <a:pt x="19436" y="7854"/>
                  <a:pt x="19422" y="7887"/>
                  <a:pt x="19422" y="7938"/>
                </a:cubicBezTo>
                <a:cubicBezTo>
                  <a:pt x="19422" y="8009"/>
                  <a:pt x="19458" y="8052"/>
                  <a:pt x="19472" y="8111"/>
                </a:cubicBezTo>
                <a:cubicBezTo>
                  <a:pt x="19491" y="8192"/>
                  <a:pt x="19522" y="8212"/>
                  <a:pt x="19571" y="8285"/>
                </a:cubicBezTo>
                <a:cubicBezTo>
                  <a:pt x="19618" y="8355"/>
                  <a:pt x="19671" y="8416"/>
                  <a:pt x="19720" y="8483"/>
                </a:cubicBezTo>
                <a:cubicBezTo>
                  <a:pt x="19752" y="8527"/>
                  <a:pt x="19792" y="8578"/>
                  <a:pt x="19819" y="8607"/>
                </a:cubicBezTo>
                <a:cubicBezTo>
                  <a:pt x="19875" y="8666"/>
                  <a:pt x="19893" y="8709"/>
                  <a:pt x="19918" y="8781"/>
                </a:cubicBezTo>
                <a:cubicBezTo>
                  <a:pt x="19941" y="8847"/>
                  <a:pt x="19962" y="8868"/>
                  <a:pt x="19968" y="8930"/>
                </a:cubicBezTo>
                <a:cubicBezTo>
                  <a:pt x="19974" y="8987"/>
                  <a:pt x="19973" y="9031"/>
                  <a:pt x="19943" y="9054"/>
                </a:cubicBezTo>
                <a:cubicBezTo>
                  <a:pt x="19900" y="9087"/>
                  <a:pt x="19877" y="9079"/>
                  <a:pt x="19819" y="9079"/>
                </a:cubicBezTo>
                <a:cubicBezTo>
                  <a:pt x="19736" y="9079"/>
                  <a:pt x="19654" y="9079"/>
                  <a:pt x="19571" y="90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Ink 4"/>
          <p:cNvSpPr/>
          <p:nvPr/>
        </p:nvSpPr>
        <p:spPr>
          <a:xfrm>
            <a:off x="1714680" y="1554120"/>
            <a:ext cx="6313320" cy="3429000"/>
          </a:xfrm>
          <a:custGeom>
            <a:avLst/>
            <a:gdLst/>
            <a:ahLst/>
            <a:rect l="l" t="t" r="r" b="b"/>
            <a:pathLst>
              <a:path w="17538" h="9526">
                <a:moveTo>
                  <a:pt x="11832" y="4341"/>
                </a:moveTo>
                <a:lnTo>
                  <a:pt x="11761" y="4404"/>
                </a:lnTo>
                <a:lnTo>
                  <a:pt x="11635" y="4497"/>
                </a:lnTo>
                <a:lnTo>
                  <a:pt x="11559" y="4564"/>
                </a:lnTo>
                <a:lnTo>
                  <a:pt x="11497" y="4619"/>
                </a:lnTo>
                <a:lnTo>
                  <a:pt x="11444" y="4657"/>
                </a:lnTo>
                <a:lnTo>
                  <a:pt x="11385" y="4713"/>
                </a:lnTo>
                <a:lnTo>
                  <a:pt x="11203" y="4886"/>
                </a:lnTo>
                <a:lnTo>
                  <a:pt x="11038" y="5053"/>
                </a:lnTo>
                <a:lnTo>
                  <a:pt x="10840" y="5209"/>
                </a:lnTo>
                <a:lnTo>
                  <a:pt x="10769" y="5265"/>
                </a:lnTo>
                <a:lnTo>
                  <a:pt x="10686" y="5303"/>
                </a:lnTo>
                <a:lnTo>
                  <a:pt x="10616" y="5358"/>
                </a:lnTo>
                <a:lnTo>
                  <a:pt x="10532" y="5423"/>
                </a:lnTo>
                <a:lnTo>
                  <a:pt x="10459" y="5498"/>
                </a:lnTo>
                <a:lnTo>
                  <a:pt x="10368" y="5556"/>
                </a:lnTo>
                <a:lnTo>
                  <a:pt x="10229" y="5644"/>
                </a:lnTo>
                <a:lnTo>
                  <a:pt x="10051" y="5736"/>
                </a:lnTo>
                <a:lnTo>
                  <a:pt x="9897" y="5779"/>
                </a:lnTo>
                <a:lnTo>
                  <a:pt x="9786" y="5810"/>
                </a:lnTo>
                <a:lnTo>
                  <a:pt x="9639" y="5815"/>
                </a:lnTo>
                <a:lnTo>
                  <a:pt x="9525" y="5829"/>
                </a:lnTo>
                <a:lnTo>
                  <a:pt x="9385" y="5846"/>
                </a:lnTo>
                <a:lnTo>
                  <a:pt x="9245" y="5835"/>
                </a:lnTo>
                <a:lnTo>
                  <a:pt x="9103" y="5854"/>
                </a:lnTo>
                <a:lnTo>
                  <a:pt x="9004" y="5867"/>
                </a:lnTo>
                <a:lnTo>
                  <a:pt x="8906" y="5890"/>
                </a:lnTo>
                <a:lnTo>
                  <a:pt x="8806" y="5904"/>
                </a:lnTo>
                <a:lnTo>
                  <a:pt x="8688" y="5920"/>
                </a:lnTo>
                <a:lnTo>
                  <a:pt x="8575" y="5963"/>
                </a:lnTo>
                <a:lnTo>
                  <a:pt x="8458" y="5978"/>
                </a:lnTo>
                <a:lnTo>
                  <a:pt x="8293" y="5999"/>
                </a:lnTo>
                <a:lnTo>
                  <a:pt x="8127" y="6006"/>
                </a:lnTo>
                <a:lnTo>
                  <a:pt x="7962" y="6028"/>
                </a:lnTo>
                <a:lnTo>
                  <a:pt x="7668" y="6067"/>
                </a:lnTo>
                <a:lnTo>
                  <a:pt x="7385" y="6129"/>
                </a:lnTo>
                <a:lnTo>
                  <a:pt x="7094" y="6176"/>
                </a:lnTo>
                <a:lnTo>
                  <a:pt x="6963" y="6197"/>
                </a:lnTo>
                <a:lnTo>
                  <a:pt x="6830" y="6204"/>
                </a:lnTo>
                <a:lnTo>
                  <a:pt x="6697" y="6226"/>
                </a:lnTo>
                <a:lnTo>
                  <a:pt x="6564" y="6248"/>
                </a:lnTo>
                <a:lnTo>
                  <a:pt x="6431" y="6279"/>
                </a:lnTo>
                <a:lnTo>
                  <a:pt x="6300" y="6300"/>
                </a:lnTo>
                <a:lnTo>
                  <a:pt x="6201" y="6316"/>
                </a:lnTo>
                <a:lnTo>
                  <a:pt x="6103" y="6335"/>
                </a:lnTo>
                <a:lnTo>
                  <a:pt x="6003" y="6350"/>
                </a:lnTo>
                <a:lnTo>
                  <a:pt x="5888" y="6367"/>
                </a:lnTo>
                <a:lnTo>
                  <a:pt x="5766" y="6374"/>
                </a:lnTo>
                <a:lnTo>
                  <a:pt x="5655" y="6400"/>
                </a:lnTo>
                <a:lnTo>
                  <a:pt x="5556" y="6423"/>
                </a:lnTo>
                <a:lnTo>
                  <a:pt x="5445" y="6409"/>
                </a:lnTo>
                <a:lnTo>
                  <a:pt x="5358" y="6449"/>
                </a:lnTo>
                <a:lnTo>
                  <a:pt x="5298" y="6476"/>
                </a:lnTo>
                <a:lnTo>
                  <a:pt x="5212" y="6557"/>
                </a:lnTo>
                <a:lnTo>
                  <a:pt x="5159" y="6598"/>
                </a:lnTo>
                <a:lnTo>
                  <a:pt x="5059" y="6677"/>
                </a:lnTo>
                <a:lnTo>
                  <a:pt x="5076" y="6708"/>
                </a:lnTo>
                <a:lnTo>
                  <a:pt x="5011" y="6796"/>
                </a:lnTo>
                <a:lnTo>
                  <a:pt x="4906" y="6938"/>
                </a:lnTo>
                <a:lnTo>
                  <a:pt x="4890" y="7032"/>
                </a:lnTo>
                <a:lnTo>
                  <a:pt x="4837" y="7193"/>
                </a:lnTo>
                <a:lnTo>
                  <a:pt x="4772" y="7390"/>
                </a:lnTo>
                <a:lnTo>
                  <a:pt x="4756" y="7543"/>
                </a:lnTo>
                <a:lnTo>
                  <a:pt x="4762" y="7764"/>
                </a:lnTo>
                <a:lnTo>
                  <a:pt x="4770" y="8073"/>
                </a:lnTo>
                <a:lnTo>
                  <a:pt x="4848" y="8325"/>
                </a:lnTo>
                <a:lnTo>
                  <a:pt x="4986" y="8582"/>
                </a:lnTo>
                <a:lnTo>
                  <a:pt x="5055" y="8710"/>
                </a:lnTo>
                <a:lnTo>
                  <a:pt x="5168" y="8864"/>
                </a:lnTo>
                <a:lnTo>
                  <a:pt x="5259" y="8979"/>
                </a:lnTo>
                <a:lnTo>
                  <a:pt x="5365" y="9113"/>
                </a:lnTo>
                <a:lnTo>
                  <a:pt x="5490" y="9227"/>
                </a:lnTo>
                <a:lnTo>
                  <a:pt x="5606" y="9351"/>
                </a:lnTo>
                <a:lnTo>
                  <a:pt x="5707" y="9458"/>
                </a:lnTo>
                <a:lnTo>
                  <a:pt x="5817" y="9579"/>
                </a:lnTo>
                <a:lnTo>
                  <a:pt x="5928" y="9674"/>
                </a:lnTo>
                <a:lnTo>
                  <a:pt x="6215" y="9919"/>
                </a:lnTo>
                <a:lnTo>
                  <a:pt x="6518" y="10166"/>
                </a:lnTo>
                <a:lnTo>
                  <a:pt x="6821" y="10393"/>
                </a:lnTo>
                <a:lnTo>
                  <a:pt x="7125" y="10620"/>
                </a:lnTo>
                <a:lnTo>
                  <a:pt x="7443" y="10847"/>
                </a:lnTo>
                <a:lnTo>
                  <a:pt x="7764" y="11038"/>
                </a:lnTo>
                <a:lnTo>
                  <a:pt x="8233" y="11318"/>
                </a:lnTo>
                <a:lnTo>
                  <a:pt x="8729" y="11530"/>
                </a:lnTo>
                <a:lnTo>
                  <a:pt x="9227" y="11733"/>
                </a:lnTo>
                <a:lnTo>
                  <a:pt x="9454" y="11826"/>
                </a:lnTo>
                <a:lnTo>
                  <a:pt x="9695" y="11966"/>
                </a:lnTo>
                <a:lnTo>
                  <a:pt x="9922" y="12030"/>
                </a:lnTo>
                <a:lnTo>
                  <a:pt x="10106" y="12082"/>
                </a:lnTo>
                <a:lnTo>
                  <a:pt x="10265" y="12090"/>
                </a:lnTo>
                <a:lnTo>
                  <a:pt x="10443" y="12154"/>
                </a:lnTo>
                <a:lnTo>
                  <a:pt x="10697" y="12245"/>
                </a:lnTo>
                <a:lnTo>
                  <a:pt x="10938" y="12363"/>
                </a:lnTo>
                <a:lnTo>
                  <a:pt x="11187" y="12452"/>
                </a:lnTo>
                <a:lnTo>
                  <a:pt x="11334" y="12505"/>
                </a:lnTo>
                <a:lnTo>
                  <a:pt x="11513" y="12544"/>
                </a:lnTo>
                <a:lnTo>
                  <a:pt x="11658" y="12601"/>
                </a:lnTo>
                <a:lnTo>
                  <a:pt x="11891" y="12692"/>
                </a:lnTo>
                <a:lnTo>
                  <a:pt x="12143" y="12803"/>
                </a:lnTo>
                <a:lnTo>
                  <a:pt x="12378" y="12898"/>
                </a:lnTo>
                <a:lnTo>
                  <a:pt x="12525" y="12958"/>
                </a:lnTo>
                <a:lnTo>
                  <a:pt x="12673" y="13036"/>
                </a:lnTo>
                <a:lnTo>
                  <a:pt x="12824" y="13097"/>
                </a:lnTo>
                <a:lnTo>
                  <a:pt x="12971" y="13156"/>
                </a:lnTo>
                <a:lnTo>
                  <a:pt x="13112" y="13230"/>
                </a:lnTo>
                <a:lnTo>
                  <a:pt x="13271" y="13271"/>
                </a:lnTo>
                <a:lnTo>
                  <a:pt x="13389" y="13301"/>
                </a:lnTo>
                <a:lnTo>
                  <a:pt x="13522" y="13288"/>
                </a:lnTo>
                <a:lnTo>
                  <a:pt x="13643" y="13320"/>
                </a:lnTo>
                <a:lnTo>
                  <a:pt x="13964" y="13404"/>
                </a:lnTo>
                <a:lnTo>
                  <a:pt x="14257" y="13538"/>
                </a:lnTo>
                <a:lnTo>
                  <a:pt x="14585" y="13593"/>
                </a:lnTo>
                <a:lnTo>
                  <a:pt x="14864" y="13640"/>
                </a:lnTo>
                <a:lnTo>
                  <a:pt x="15148" y="13642"/>
                </a:lnTo>
                <a:lnTo>
                  <a:pt x="15429" y="13692"/>
                </a:lnTo>
                <a:lnTo>
                  <a:pt x="15892" y="13774"/>
                </a:lnTo>
                <a:lnTo>
                  <a:pt x="16270" y="13799"/>
                </a:lnTo>
                <a:lnTo>
                  <a:pt x="16718" y="13791"/>
                </a:lnTo>
                <a:lnTo>
                  <a:pt x="17380" y="13779"/>
                </a:lnTo>
                <a:lnTo>
                  <a:pt x="18038" y="13901"/>
                </a:lnTo>
                <a:lnTo>
                  <a:pt x="18703" y="13841"/>
                </a:lnTo>
                <a:lnTo>
                  <a:pt x="18885" y="13825"/>
                </a:lnTo>
                <a:lnTo>
                  <a:pt x="19124" y="13812"/>
                </a:lnTo>
                <a:lnTo>
                  <a:pt x="19298" y="13742"/>
                </a:lnTo>
                <a:lnTo>
                  <a:pt x="19379" y="13709"/>
                </a:lnTo>
                <a:lnTo>
                  <a:pt x="19449" y="13638"/>
                </a:lnTo>
                <a:lnTo>
                  <a:pt x="19521" y="13593"/>
                </a:lnTo>
                <a:lnTo>
                  <a:pt x="19566" y="13565"/>
                </a:lnTo>
                <a:lnTo>
                  <a:pt x="19555" y="13545"/>
                </a:lnTo>
                <a:lnTo>
                  <a:pt x="19596" y="13519"/>
                </a:lnTo>
                <a:lnTo>
                  <a:pt x="19628" y="13499"/>
                </a:lnTo>
                <a:lnTo>
                  <a:pt x="19622" y="13455"/>
                </a:lnTo>
                <a:lnTo>
                  <a:pt x="19670" y="13419"/>
                </a:lnTo>
                <a:lnTo>
                  <a:pt x="19729" y="13375"/>
                </a:lnTo>
                <a:lnTo>
                  <a:pt x="19789" y="13338"/>
                </a:lnTo>
                <a:lnTo>
                  <a:pt x="19844" y="13295"/>
                </a:lnTo>
                <a:lnTo>
                  <a:pt x="19905" y="13247"/>
                </a:lnTo>
                <a:lnTo>
                  <a:pt x="19954" y="13200"/>
                </a:lnTo>
                <a:lnTo>
                  <a:pt x="20017" y="13146"/>
                </a:lnTo>
                <a:lnTo>
                  <a:pt x="20100" y="13076"/>
                </a:lnTo>
                <a:lnTo>
                  <a:pt x="20219" y="13033"/>
                </a:lnTo>
                <a:lnTo>
                  <a:pt x="20290" y="12948"/>
                </a:lnTo>
                <a:lnTo>
                  <a:pt x="20401" y="12816"/>
                </a:lnTo>
                <a:lnTo>
                  <a:pt x="20463" y="12658"/>
                </a:lnTo>
                <a:lnTo>
                  <a:pt x="20563" y="12526"/>
                </a:lnTo>
                <a:lnTo>
                  <a:pt x="20719" y="12322"/>
                </a:lnTo>
                <a:lnTo>
                  <a:pt x="20854" y="12083"/>
                </a:lnTo>
                <a:lnTo>
                  <a:pt x="20985" y="11881"/>
                </a:lnTo>
                <a:lnTo>
                  <a:pt x="21014" y="11836"/>
                </a:lnTo>
                <a:lnTo>
                  <a:pt x="21013" y="11763"/>
                </a:lnTo>
                <a:lnTo>
                  <a:pt x="21034" y="11733"/>
                </a:lnTo>
                <a:lnTo>
                  <a:pt x="21053" y="11706"/>
                </a:lnTo>
                <a:lnTo>
                  <a:pt x="21131" y="11688"/>
                </a:lnTo>
                <a:lnTo>
                  <a:pt x="21134" y="11683"/>
                </a:lnTo>
                <a:lnTo>
                  <a:pt x="21148" y="11613"/>
                </a:lnTo>
                <a:lnTo>
                  <a:pt x="21076" y="11911"/>
                </a:lnTo>
                <a:lnTo>
                  <a:pt x="21109" y="11757"/>
                </a:lnTo>
                <a:lnTo>
                  <a:pt x="21128" y="11669"/>
                </a:lnTo>
                <a:lnTo>
                  <a:pt x="21160" y="11571"/>
                </a:lnTo>
                <a:lnTo>
                  <a:pt x="21183" y="11485"/>
                </a:lnTo>
                <a:lnTo>
                  <a:pt x="21256" y="11208"/>
                </a:lnTo>
                <a:lnTo>
                  <a:pt x="21318" y="11060"/>
                </a:lnTo>
                <a:lnTo>
                  <a:pt x="21456" y="10815"/>
                </a:lnTo>
                <a:lnTo>
                  <a:pt x="21488" y="10759"/>
                </a:lnTo>
                <a:lnTo>
                  <a:pt x="21476" y="10717"/>
                </a:lnTo>
                <a:lnTo>
                  <a:pt x="21506" y="10666"/>
                </a:lnTo>
                <a:lnTo>
                  <a:pt x="21580" y="10541"/>
                </a:lnTo>
                <a:lnTo>
                  <a:pt x="21686" y="10451"/>
                </a:lnTo>
                <a:lnTo>
                  <a:pt x="21754" y="10319"/>
                </a:lnTo>
                <a:lnTo>
                  <a:pt x="21907" y="10020"/>
                </a:lnTo>
                <a:lnTo>
                  <a:pt x="22121" y="9689"/>
                </a:lnTo>
                <a:lnTo>
                  <a:pt x="22225" y="9376"/>
                </a:lnTo>
                <a:lnTo>
                  <a:pt x="22281" y="9207"/>
                </a:lnTo>
                <a:lnTo>
                  <a:pt x="22286" y="9058"/>
                </a:lnTo>
                <a:lnTo>
                  <a:pt x="22299" y="8880"/>
                </a:lnTo>
                <a:lnTo>
                  <a:pt x="22322" y="8575"/>
                </a:lnTo>
                <a:lnTo>
                  <a:pt x="22249" y="8351"/>
                </a:lnTo>
                <a:lnTo>
                  <a:pt x="22101" y="8086"/>
                </a:lnTo>
                <a:lnTo>
                  <a:pt x="21979" y="7867"/>
                </a:lnTo>
                <a:lnTo>
                  <a:pt x="21770" y="7697"/>
                </a:lnTo>
                <a:lnTo>
                  <a:pt x="21555" y="7590"/>
                </a:lnTo>
                <a:lnTo>
                  <a:pt x="21432" y="7529"/>
                </a:lnTo>
                <a:lnTo>
                  <a:pt x="21260" y="7524"/>
                </a:lnTo>
                <a:lnTo>
                  <a:pt x="21134" y="7466"/>
                </a:lnTo>
                <a:lnTo>
                  <a:pt x="21047" y="7426"/>
                </a:lnTo>
                <a:lnTo>
                  <a:pt x="20937" y="7358"/>
                </a:lnTo>
                <a:lnTo>
                  <a:pt x="20836" y="7317"/>
                </a:lnTo>
                <a:lnTo>
                  <a:pt x="20687" y="7256"/>
                </a:lnTo>
                <a:lnTo>
                  <a:pt x="20567" y="7200"/>
                </a:lnTo>
                <a:lnTo>
                  <a:pt x="20414" y="7144"/>
                </a:lnTo>
                <a:lnTo>
                  <a:pt x="20106" y="7032"/>
                </a:lnTo>
                <a:lnTo>
                  <a:pt x="19821" y="6956"/>
                </a:lnTo>
                <a:lnTo>
                  <a:pt x="19496" y="6896"/>
                </a:lnTo>
                <a:lnTo>
                  <a:pt x="19255" y="6852"/>
                </a:lnTo>
                <a:lnTo>
                  <a:pt x="18994" y="6852"/>
                </a:lnTo>
                <a:lnTo>
                  <a:pt x="18752" y="6796"/>
                </a:lnTo>
                <a:lnTo>
                  <a:pt x="18510" y="6740"/>
                </a:lnTo>
                <a:lnTo>
                  <a:pt x="18267" y="6673"/>
                </a:lnTo>
                <a:lnTo>
                  <a:pt x="18033" y="6598"/>
                </a:lnTo>
                <a:lnTo>
                  <a:pt x="17923" y="6563"/>
                </a:lnTo>
                <a:lnTo>
                  <a:pt x="17764" y="6482"/>
                </a:lnTo>
                <a:lnTo>
                  <a:pt x="17686" y="6449"/>
                </a:lnTo>
                <a:lnTo>
                  <a:pt x="17652" y="6435"/>
                </a:lnTo>
                <a:lnTo>
                  <a:pt x="17621" y="6415"/>
                </a:lnTo>
                <a:lnTo>
                  <a:pt x="17587" y="6400"/>
                </a:lnTo>
                <a:lnTo>
                  <a:pt x="17545" y="6382"/>
                </a:lnTo>
                <a:lnTo>
                  <a:pt x="17504" y="6371"/>
                </a:lnTo>
                <a:lnTo>
                  <a:pt x="17462" y="6350"/>
                </a:lnTo>
                <a:lnTo>
                  <a:pt x="17213" y="6224"/>
                </a:lnTo>
                <a:lnTo>
                  <a:pt x="16954" y="6109"/>
                </a:lnTo>
                <a:lnTo>
                  <a:pt x="16718" y="5978"/>
                </a:lnTo>
                <a:lnTo>
                  <a:pt x="16550" y="5885"/>
                </a:lnTo>
                <a:lnTo>
                  <a:pt x="16366" y="5703"/>
                </a:lnTo>
                <a:lnTo>
                  <a:pt x="16197" y="5631"/>
                </a:lnTo>
                <a:lnTo>
                  <a:pt x="15869" y="5492"/>
                </a:lnTo>
                <a:lnTo>
                  <a:pt x="15708" y="5507"/>
                </a:lnTo>
                <a:lnTo>
                  <a:pt x="15329" y="5457"/>
                </a:lnTo>
                <a:lnTo>
                  <a:pt x="14950" y="5407"/>
                </a:lnTo>
                <a:lnTo>
                  <a:pt x="14587" y="5333"/>
                </a:lnTo>
                <a:lnTo>
                  <a:pt x="14213" y="5259"/>
                </a:lnTo>
                <a:lnTo>
                  <a:pt x="13908" y="5199"/>
                </a:lnTo>
                <a:lnTo>
                  <a:pt x="13610" y="5140"/>
                </a:lnTo>
                <a:lnTo>
                  <a:pt x="13320" y="5060"/>
                </a:lnTo>
                <a:lnTo>
                  <a:pt x="13192" y="5025"/>
                </a:lnTo>
                <a:lnTo>
                  <a:pt x="13052" y="4974"/>
                </a:lnTo>
                <a:lnTo>
                  <a:pt x="12923" y="4936"/>
                </a:lnTo>
                <a:lnTo>
                  <a:pt x="12871" y="4921"/>
                </a:lnTo>
                <a:lnTo>
                  <a:pt x="12776" y="4920"/>
                </a:lnTo>
                <a:lnTo>
                  <a:pt x="12750" y="4911"/>
                </a:lnTo>
                <a:lnTo>
                  <a:pt x="12707" y="4896"/>
                </a:lnTo>
                <a:lnTo>
                  <a:pt x="12708" y="4903"/>
                </a:lnTo>
                <a:lnTo>
                  <a:pt x="12675" y="4887"/>
                </a:lnTo>
                <a:lnTo>
                  <a:pt x="12601" y="4851"/>
                </a:lnTo>
                <a:lnTo>
                  <a:pt x="12533" y="4801"/>
                </a:lnTo>
                <a:lnTo>
                  <a:pt x="12452" y="4762"/>
                </a:lnTo>
                <a:lnTo>
                  <a:pt x="12417" y="4745"/>
                </a:lnTo>
                <a:lnTo>
                  <a:pt x="12387" y="4728"/>
                </a:lnTo>
                <a:lnTo>
                  <a:pt x="12353" y="4713"/>
                </a:lnTo>
                <a:lnTo>
                  <a:pt x="12290" y="4685"/>
                </a:lnTo>
                <a:lnTo>
                  <a:pt x="12158" y="4609"/>
                </a:lnTo>
                <a:lnTo>
                  <a:pt x="12080" y="4564"/>
                </a:lnTo>
                <a:lnTo>
                  <a:pt x="12000" y="4517"/>
                </a:lnTo>
                <a:lnTo>
                  <a:pt x="12003" y="4504"/>
                </a:lnTo>
                <a:lnTo>
                  <a:pt x="11931" y="4465"/>
                </a:lnTo>
                <a:lnTo>
                  <a:pt x="11908" y="4453"/>
                </a:lnTo>
                <a:lnTo>
                  <a:pt x="11895" y="4422"/>
                </a:lnTo>
                <a:lnTo>
                  <a:pt x="11881" y="4415"/>
                </a:lnTo>
                <a:lnTo>
                  <a:pt x="11846" y="4397"/>
                </a:lnTo>
                <a:lnTo>
                  <a:pt x="11836" y="4405"/>
                </a:lnTo>
                <a:lnTo>
                  <a:pt x="11807" y="4390"/>
                </a:lnTo>
                <a:lnTo>
                  <a:pt x="11739" y="4355"/>
                </a:lnTo>
                <a:lnTo>
                  <a:pt x="11684" y="4342"/>
                </a:lnTo>
                <a:lnTo>
                  <a:pt x="11633" y="4316"/>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Ink 9"/>
          <p:cNvSpPr/>
          <p:nvPr/>
        </p:nvSpPr>
        <p:spPr>
          <a:xfrm>
            <a:off x="6518160" y="2687760"/>
            <a:ext cx="196920" cy="19080"/>
          </a:xfrm>
          <a:custGeom>
            <a:avLst/>
            <a:gdLst/>
            <a:ahLst/>
            <a:rect l="l" t="t" r="r" b="b"/>
            <a:pathLst>
              <a:path w="547" h="51">
                <a:moveTo>
                  <a:pt x="18107" y="7516"/>
                </a:moveTo>
                <a:cubicBezTo>
                  <a:pt x="18165" y="7516"/>
                  <a:pt x="18377" y="7547"/>
                  <a:pt x="18405" y="7491"/>
                </a:cubicBezTo>
                <a:cubicBezTo>
                  <a:pt x="18405" y="7483"/>
                  <a:pt x="18405" y="7474"/>
                  <a:pt x="18405" y="7466"/>
                </a:cubicBezTo>
                <a:cubicBezTo>
                  <a:pt x="18463" y="7466"/>
                  <a:pt x="18521" y="7466"/>
                  <a:pt x="18579" y="7466"/>
                </a:cubicBezTo>
                <a:cubicBezTo>
                  <a:pt x="18592" y="7504"/>
                  <a:pt x="18608" y="7491"/>
                  <a:pt x="18653" y="7491"/>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4:11:52Z</dcterms:created>
  <dc:creator>bwells13</dc:creator>
  <dc:description/>
  <dc:language>en-US</dc:language>
  <cp:lastModifiedBy>Mount Lebanon School District</cp:lastModifiedBy>
  <dcterms:modified xsi:type="dcterms:W3CDTF">2011-03-23T15:07:31Z</dcterms:modified>
  <cp:revision>33</cp:revision>
  <dc:subject/>
  <dc:title>The Battle of New Orleans</dc:title>
</cp:coreProperties>
</file>